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CB16-21FE-466A-8E34-A4B84D79B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DF872-57D0-47B4-9D1F-0602EAC7F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E733B-8347-4238-AEA2-36C317D16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B5F20-BEA8-43DF-B0A4-822607F11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17CAE-EDCE-41BB-B5CA-8F3C7A0D6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78144-0B14-4FE0-A652-D98AE5641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1C94F-1C2D-4E78-B151-8B8F7F9A7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79BDB-8DB3-414F-8F81-F2314C1D7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1A575-CEF0-4B7B-B9F5-F3C0E55CA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E9EAC-6D31-46A2-8A35-CF0456236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53A88-6269-4282-A6C7-890256425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B907D-615A-462F-9634-587607E7E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E5005-E8D6-47F0-93D1-B26183654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F5A47-DA67-463B-8F9F-E739F7DF4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A0335-6702-4922-ACEE-9067014CE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9FDD6-18B5-463B-8FF4-4CB1A71B5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F8D8A-3A9E-44DB-BF66-C483DC333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52F71-A741-4464-A25B-3A1DF4750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84BB9-E60C-42A1-A0E5-30F32C5B8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B70A1-3714-411B-B069-EEC427754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73A14-8442-4FF2-BF9E-FC85CECBD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51AB9-99C0-45FF-B437-E28891BED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A050E-9544-4A4F-8643-513E7C6EB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3EF5-17D0-4493-A05C-CFF4812A9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CEE74-E383-447F-8A50-2B6371866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013A-BC9E-40A7-A564-9C5853C77D9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D250-75D5-4925-864A-3A12FCECA32E}"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32203C98-D141-4714-9ECB-393B8DF39C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61948C-1B0A-4D71-897B-3F565C3C77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14FA4A-3A96-41EE-915E-49B3545307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782B57-B736-4E23-B4B3-9700505D58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AB2F0A-3AF7-45F1-A4DD-0ED68FF5B5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797BA1-11A3-43C6-8C81-00CBB06E93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B158BA-EBBA-4D26-A1AA-3339B4E636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D1C3BA-0191-47E6-9E9A-5742CFA437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1666E9-C11E-4FCF-9232-658EBE560D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B1CCBD-8001-40F6-BB59-A3BB22A71E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9A68F04-2BFB-4CED-BC15-5532B39344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3735E4-41B4-42BD-BD87-EF8F8195F7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95F536-1A7B-4209-9C61-CEE770A4B7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FFB158-BAEA-4721-88E4-873FFE49AA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D8628A-BC43-4600-A0A8-1D7AA54639C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043A13-95AB-434D-A976-0A574135B3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AD4F0E-A850-415F-B0BC-0D0A1B46B4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883914-2D6A-4816-80D1-ED35CC2B42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71EFC6-5A4D-4B77-BBD3-8292DFDB1F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D4E1DE-2180-4C3B-B09C-8404094E48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3474C4-F411-4E7C-9AB2-458B30ABFA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1BB0BF-2D85-4482-B0A9-553BFB405C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0DEF28-238E-4217-9B61-3584251ECC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928F66D-8CFB-4CA2-82AC-78BE11B16D5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3627D77-D2D1-4ED5-9806-ABB4D40221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45ABEB-D846-4800-86C3-27FBB792C8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FB2616-4417-42B2-AF33-6573A78770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8A9D7C-CAE9-4DAB-AE2B-101F1A4417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52A4EB-AD83-46AA-A6D0-6FBCDD9E59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D3B2E6-5AD1-4382-B39A-0761DCAFA2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D3400E-BCAE-4BF1-9FFD-4ACB74C5BA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D04B861-13D3-4515-94C1-E8BEC68A28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7D018D3-36C4-42A7-B668-6CCB3812E5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2C6C73-356A-4F3F-8170-176915B126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5CDA70-EEC3-45A9-B349-0E6B28DF3A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51DC42-4691-43D0-A096-BD574E57E8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6DFC19-8A90-4C45-8EF1-CABCAAD09DD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8C9C30-EE5A-4B58-A462-98E13722681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7E0DE5-F43C-4CDC-A1DB-3014DE8983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1C560D-A128-4E29-853D-CBFD369D3A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9B03CB-2892-40CD-9999-FC291DCDEDA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6BAFCD-A494-42B5-8B09-640C63A638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497AD5-B466-4A97-B7DA-BB3085C9DA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483E40-34B2-48BE-B51A-9D0AB3B26C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BC42C8-66FA-4160-A283-3D901102BF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5374A8-29D7-4BA0-9082-656239E711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7AF0585-CFA7-491E-A7C0-8949FF00BF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B043861-8D6A-4B09-81C4-49B1C00BD4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6F390DC-6E80-4151-B4C2-9FFE723383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0435561-80C3-4EFA-9659-0D689835511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09D432-3D74-4A8B-969B-657ABA40549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C92FE1-C0E2-40DC-823C-03CECD1703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507105-B845-481B-B5BE-2DC1AF4637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8195F2-6E1B-4C32-952F-8C59F18282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E9D466-006E-4477-85BF-B61F64B640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E2A3DE-F058-42B3-A773-25623B9AE6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35258E-F95B-450F-A45F-0DDAC11D23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AF6EE1-0E3F-48EB-86F1-91E0247391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47F15F3-BBF9-49C9-A919-221727A491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39CAC1-0FBD-4AF5-A73D-799398717B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6780B22-0F28-43CC-A0BE-8A6A992CDF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3DFFE7-456E-4FCE-8EC3-C781B77BB8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EA04A9-A381-483B-A005-BF9F5BBF0D4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014F0A-82E6-4ED0-8C9C-D6C97ABCF3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EBFDE1-C72A-4E34-B969-CE1C504CE5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F1A6EC-884F-42D2-B200-2E30F63504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3211D11-E29E-4EA9-8C31-6EA6766659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37B93D-D070-4021-BB3D-722AB4C796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1BCE130-4A19-4C13-B64F-6D1F19DFB8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DE33AA-1502-4EB7-AD3F-8E036B1C64A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1BA8C2-A533-42C2-BFEB-C8E5AC376B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CEBFF83B-EB2B-42E6-A125-98C9B4C26E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DEC812-49C1-42E9-A8A4-3C9A4AF34C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6C7DADA-D6A4-4824-8ABE-94209D1538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083BC6-E54F-4A1B-9272-54A7019834E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58AEFE-88B6-4B0D-B8CC-78287A0D11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740FCE-51FB-4408-BC6A-E2D04BF701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5FA79C-BB89-4F90-868D-1CC887BC42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A61BB6-6F47-4F11-9ED2-E43A5740AF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3C03B2-D198-401E-A28F-1F450E5270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3B626F-958B-4357-9B8B-D6B6F5C6B9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33C03E-DEED-478B-8F3E-C9EB099CD3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5CFD12-FAE9-472D-9316-387FC7FCF0C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95856E-B9BE-4863-BBE0-A56B1CC6D3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BB1D5A-DB46-48BB-8C43-63BDE64C49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92167A-8140-477B-A464-919AACC428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82325F-6FC2-49A0-B9C0-0D52C32E2C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2D1433-B678-498A-8421-F9131B202B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5C20EC0-C4F7-4C19-8B5B-43AD670E17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B6595C-63FE-4676-8141-1ADDD420A77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B3FB26-FD29-4D99-9987-99844F6D41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BE6AF38-9BD5-40F4-82DD-2D7FD8ADAC9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1031901-E6F0-455B-B1F2-4B23CB6F84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DEB1BB-22F8-41F2-BEC2-49DF0DDAE7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66A9E7-9C27-4AF2-ACF3-CB9D006D24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56BABD5-EFA1-4DB3-B1BC-4C6E5E4723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3EFC10-FD7C-45A6-9F4D-6C0199EC9F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E8CB9A-5FAF-4F8E-A52C-C52CFA5187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C60E11-7E40-4D22-A283-BCD60F39E1D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EF5370-6E02-4CC0-A4D3-BA17D88B97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7015D6-EA85-4BF8-8D96-F7224C6058F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C29329-4F92-4A9E-A790-85A05FBA8F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5A6293-043F-4149-AAF7-E7D1D372067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B69D9B-551E-4DB2-B566-1F1C1DA188D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4D7D821-EEE7-480E-ACB3-FB7C88EC5D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D5BBA6-B514-4F62-AC50-A1206F3062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C10FD4-8AA3-4FF9-9ADC-301588EAD4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4F2022-C650-478F-B1F6-CA1C72E180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37BD2E-9236-4B66-BBD3-6BBA8F4DF03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7AD875-613C-4F16-A8F8-35F82A9D48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68AD3B-98CF-4413-82F1-D51E2D863F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A7031E-3CBD-402D-88CB-AD8E4CE431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E1BBC0-D748-4B94-8AE9-F0AEA66959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B9CAEA-DFDB-4019-9926-A4774737110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BC7AA5-F469-478B-BA84-09A0E457BE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CC4442-9D34-4124-B96D-3EBAD92DD1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135039-2DE1-4A37-81F2-5F4CCCE912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BF7E5B-B987-4347-B0B4-0144ABDE82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F8D9B5-8DBF-4697-9646-1A33966EE0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B9CBDA-70CD-4DFF-B245-DF002D6F91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8E2A38-7A6B-4C54-A6E2-158F23158A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5AD1CF-FD30-4422-95CF-3326CFE78B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3EBD02-CAF9-41BE-903C-40D3D188B0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D3FDF3-C395-4AB2-A5C8-3424D8783C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51AA18-36EB-4FD4-AD1E-DAEE4A462C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2B1AC8-9A20-40B2-8EF7-315020B2D6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C9024A-311C-45D6-86C6-F019B315DA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867F9D-5848-4ED3-A359-970424480C81}"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9D3B4B-8757-42EB-AD8B-D237C6D6F3F9}"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AC53A2-5E5E-409F-9C96-CD1D63954227}"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A85CDA-BE40-46FF-84CE-9014A64FCFC7}"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1EA822-6B93-4670-964F-A48BF364D5ED}"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E44A313-3977-4189-BC8E-075A39BC1185}"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6A805A-DFEA-4DB7-961D-AF7CC57B70FE}"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1F4B61-41C2-441E-8B4D-E162E18FF47A}"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99E6A7-D933-4E47-8426-08100D7B3D10}"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E7C566-4EA5-418F-B2B8-B657E8FF2C2B}"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DC28D677-E9EF-47A5-8FF0-71FE8E84CFEB}"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03AE30-18DE-4634-937A-0102956D0484}"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4228DD-BB33-4572-9ABA-D0B933A6827C}"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F1DE28-FA91-4F08-976E-243B42FE9596}"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89D410-24CA-47F9-993A-DF1B316A34D7}"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383472-7F1B-452B-AA17-025C3720C0F2}"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CF38C3-9234-4A31-A018-A8088198F4D1}"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C3FFEA-977F-4620-AE98-E88F9329433B}"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38FD75-2345-4D9F-89DA-BEAF0F9E6215}"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B022A33-7783-418D-BD88-0E1527BB0AC3}"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34B528-804D-4BC2-B4FD-4310DB191120}"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B7334F-946D-4724-9726-9BD7C8659DB1}"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9CD4A3-4C7C-4929-B7C5-E6AA7F00F979}"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6B2CCB-E472-40BA-88AD-115C159D3232}"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8F46FF-B91D-4FC4-9651-5B811F6AC120}"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AE12D66-C230-44BD-AE99-6516A6F61EA6}"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76AE325-F5A7-479C-AFB1-F0988D20F483}"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C4B677-8772-4E78-8A6D-19FB1C331658}"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FE544C-D101-4234-B8C0-4A4E03C33991}"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B5E2DF-B3F7-4C36-9A4D-8154794CC23F}"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4664247-4E34-4D47-9DA4-1EE7B0573EF1}"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2856DEE-2D3E-405E-A899-A9332BEB530F}"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C7ECC2-8EA4-4F17-9887-02F86E942681}"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B75595-A3CC-41D5-B9E2-AFC0347F0C3E}"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AC0107-9B4D-4ECD-9BBC-D7C064D7C499}"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54E2DE-975A-41A0-987A-341BFC385043}"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1DCE27-38F7-4C68-B130-2B223FA24E96}"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16EE65-E049-4F39-B6AF-3B948879A1D5}"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A68FC2-0057-4B71-ADA2-3745791A2B44}"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3926A41-268E-43A7-A89E-F813828E84B7}"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3AD71D1-DC0A-491B-B9EF-79D96DE74E10}"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0148BF3-B61B-4EF8-82FE-D3E84491B811}"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36F0E8C6-10EC-483B-9F0D-4B56A21C037E}"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47EF28-904B-45EB-AD10-FDA22EAAD2CD}"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A113A9-5AD7-4D0F-9789-F0FADCA39736}"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573F75-088B-4271-B645-B7417BD79EC8}"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9BC65E-43DF-4164-9AEF-6BD2DBB4C87F}"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9D53FF-C7EA-4468-8588-A7780BB6DA97}"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EE0111-B1C4-4E89-9543-7E4C896B9546}"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3CCA57-8654-478D-9B07-CB10717B07B6}"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14DDA76-8891-4975-9AFB-988747F3690B}"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63E197-8101-4E00-A5D5-5AB22612455D}"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380079-BD46-461A-A62B-EB8EF6F76D43}"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78FBE1F-B5E8-4152-9343-EB14A51B4184}"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97E42C-2C10-4EBA-8B23-86772D121985}"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521040B-C4DC-4B3C-BCF7-26620901CC88}"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CE4D25-3E10-4C0F-9B9C-7EC25AB8BD97}"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885582-A3E8-4C10-AF05-CD637100745F}"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C76037-5FCC-4ED6-A1ED-9974304DE7F7}"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50FF80-502A-4110-AEAE-C321349D06AA}"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405F7C9-D9A1-4A5A-8B6C-7393E9047061}"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91D70D-6EEF-4630-83E3-43C211C985D8}"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8A4CB1-47AA-48FE-9896-11F80426C581}"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FD432C-457F-4B78-9BAE-D4E799207709}"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3FE7A8-0CA9-45A8-BB84-7C855AC0D315}"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F053BC-BF1B-4043-8D24-18A141922EBF}"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5D9CC6-FF4C-431C-90A9-4A0235331C48}"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C444C9-4D6D-4E86-ACAF-A67978663391}"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646102-00A2-4BF1-B193-3CA8A6032335}"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BAC355-6B64-47A0-8877-6FC8CCCB7964}"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2C4138-66DF-4C70-9192-D742570394E3}"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328307-AF5C-4472-93BB-8C1F0A29A69C}"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F01069-1A85-4E24-8191-5074AD7A77C0}"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50B901-A5CC-4F04-8A24-22A1E736414D}"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C2BB30-7251-4D65-82CF-B6A2F63F1892}"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8649BC-1E18-47D9-ADB4-5B754416C086}"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DA8E50-0BD3-41B7-925F-51FFC8FE7678}"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6345C4-731A-4E14-A0D6-47D0515308AE}"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BDF45B-3BBF-466F-9FCB-FB34995F2817}"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9B2021-87D1-498C-9B2E-F53D4EE1FF00}"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8E8E11-DE4E-4812-AAF6-668CC6F841AD}"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F5A6E622-FD1E-4B16-BB79-0867D7584C62}"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ED00E2-EC4C-4F99-9B5C-95B74E4F285D}"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B7587EB-B652-4D37-9C0A-5C71DFA263F7}"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42C020-2536-4976-B57A-558641EDFD31}"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0672A8D-0A5E-4861-BFCC-ADEB9D972885}"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218B844-7671-46F9-80D3-BD6CF0A7E95A}"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04905D-4C4C-456E-AAD0-3F120C178CF5}"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5820D745-2C7F-48C3-9805-14BFA1D41C62}"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299D02-B5F7-4F67-A213-930168AC836F}"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32B36D-6600-4C63-9D06-336C76E65EFB}"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1BB27C-CC23-47FA-960B-8D0F72531DD4}"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C56998-B51A-4D79-9AEB-8D894C0E2C49}"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31FC4D-6DAC-4309-873B-F73032C082AE}"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69E049-7DAA-4610-BDCD-B78C24C518A9}"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7BBB17-3E72-4F8C-8E06-4D32B41115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79B923-E1D9-4BC1-B5BF-F430B2D68A56}"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4595AB-ED02-4426-A32E-7E8290B5CD1A}"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C177370-4790-4391-B651-088F6EEF260B}"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D62D2ED-7660-45B4-A6D7-C09C73EE865C}"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A1571A0-8606-4653-997B-D73A93911204}"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7A0CB3-9EBC-47A5-894F-9E73D01539E0}"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2456BF-9ACE-447F-BF81-FEECB2F5C62B}"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C80B53-DD92-44B9-B922-3F4C6AF663B6}"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03D18B-E97C-44EF-9EA4-2923F54A20A8}"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FA4EA78-8648-4087-A62C-4306A1806137}"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D19E41-EEA6-4A5E-85FF-31ABAE1155C5}"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F50652-601C-4C7F-8C61-6379E3225D53}"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9E40E1-AD0F-44E7-89BF-BBD3DF6B7E6C}"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2BBFAE-287A-4A74-99E0-2072553FEEDD}"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DDF9EDE-ED44-4035-B1D9-4FC423953A73}"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C2D4DC-167A-46CE-A704-AAE2DD5199ED}"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59C1C907-4349-4232-8066-5FA02E314FFF}"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E4E280-6317-4FF2-94A9-0E2034B36957}"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C81E9E-7203-4693-8F18-A00EFA5E4CBD}"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6993E4-A43F-4BFE-8804-23A990E98901}"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39CBF04-127C-457C-AD72-39D224771732}"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25910D-B700-436C-85A0-250DDB5B212C}"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735D7D-6CF2-426A-A873-B62DA3F6A272}"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40D0AD9-694E-475D-A9E7-1291D0F9709B}"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76D204-2DC3-41A5-8048-DFEDA0D44B87}"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62FAA0-76DC-4305-A64F-37ED05456504}"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94858F9-C13B-4C31-A355-6F001B7ED6D0}"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264E64D-B216-40ED-BE91-86D9D641043C}"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554B08D-2389-4EBD-B236-8AF4998E84B6}"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DA66533-DE2C-4C8E-AC56-5995716AA9FD}"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8EBA31-D7B1-49DA-BA77-36FFD5BA96B5}"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DA1539-B9FF-4D36-8EAB-C92FBB600541}"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81410DE-E961-4AAE-A10F-5F48D9CBBC4A}"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973ED8-D2BA-4CC4-8B39-6E95D22545A8}"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FADB0E-15F9-46A2-8A32-8CCBED84D379}"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A017B19-8B0E-473C-BE49-B3FA41699B93}"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EC6B49-110D-4FCD-B8C9-09EE7510A092}"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73FAAF6-D786-4D85-9ECF-509305C98606}"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404FEB-0774-4EBA-8A7C-FE2BD7177F75}"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665FC9-BC27-43F0-BEBB-116BF259E6DF}"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82ABF0-E4C3-4DEE-8AD0-98A8F7EA4741}"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D9A962-5E78-468D-9B05-3E0A4E49FFD2}"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597A3E-2D64-445F-93FD-E2D45B133DCC}"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9A6BADF-DF7D-4355-B39B-CCA69791AB0C}"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7C5028-E4E6-4F92-ABF3-8022AF7145D6}"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4FA71E-2D47-4BAC-A768-0CA87137027E}"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BC330DF-0DF2-4CE8-ADC2-E5870325B608}"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6AC0E8-A7DD-401A-8281-B024299CD03C}"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45A21A7-3A8F-4721-B5AA-0140400A6AFC}"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AEC585-20CF-47CC-9292-0713CBEC6618}"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83E6638-073B-45A6-AE31-AF979E06AC3F}"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E7B7766-E6F9-460A-9EB5-8C628061EF0E}"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EB6923-DF68-4C53-89C6-23AEFB63C8ED}"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117A5F-1847-47E7-9A24-446DE1CF35A3}"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F35997-7C8F-4B80-B93B-6FE49B00596B}"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FE2130-349C-4A46-AB53-B910BCF635B4}"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DF5789B-CE16-42E3-B2B9-B7A8EBC52373}"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95071E0-2F95-4F68-B890-0E57885E8DE2}"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044C45-C522-4691-89B0-CB204D7DFF8C}"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0DCB69-E691-4798-8D3C-C7E8765676B5}"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DD33BC-AAC1-454F-A2F5-D47F10E54F78}"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C45AC3D-1344-4DAA-8010-E6C9B3CB2AD5}"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90D0735-D6EB-480E-A9BC-1B6320A0D8A4}"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787EF7-1B20-4AC9-A6C9-058986BA8FA4}"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235444-05A1-44E3-BBDB-1CEEB5A89A8E}"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2F04DF-ECC4-404D-A041-19CDAE110DE2}"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DAB61B-69AD-44F7-9970-772626C0DD23}"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C71519-C945-4866-A313-D2CB446BF203}"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FF79CB22-91B1-41FC-8ED1-EBB6F7C010D6}"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781112-CE53-4DD3-B7B6-3F78C3D37C15}"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544A65-F002-47F6-BC45-0FE2F560878E}"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407349-7155-4B74-8EC3-D4A66917BAAA}"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C73B73C-AA50-4208-ABFC-3F419733C434}"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53D48C4-A33B-447E-9B9F-FBE720F07648}"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3B042A2-D450-45DE-B4A5-A0623C3502DD}"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816402-E13E-4225-9E12-78BA40CA5633}"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36BD49-B0F9-4781-9F0C-46EBA786D5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CCF8F8-31FA-42DE-BE2F-56CFC39398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54DC32-99EF-44D1-A71F-8D5D065C74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3B217F-DA3F-4846-92C9-7720ACE58D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6B6AD5-EF01-49BA-B142-7733265547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36A01D-2DEC-4717-91ED-0B7D4A27B7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7C791C-3453-4689-91BD-6192DB1DC9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DDCC5E-FDE0-4262-AFE7-DAB039A21E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5F38CC-ECF0-4851-8B0D-24B9FE827B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BA7EEF-9508-43D2-8763-3C47518B97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A076F220-B090-45FB-B74A-E12AE740CC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214539-8253-4B32-A163-D56AA11C73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5FEDC8-DBDD-4714-A509-D889810271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36347D-9AC9-47F0-8962-D060E2023C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0CA441-0858-4B97-89B1-E9176A0988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2456E1-EE69-4E9A-AC22-733AB40089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8C0089D-17D4-47C8-B250-6E016032F3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114BDE-7461-475C-BC49-07F8CF0535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F898D0-37D1-42BC-8506-9125A7E2C3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2868E4-A788-4466-A7FD-5D9E8BE000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A1B404-0ACB-4DBD-8E9D-2D49853C09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0418EB-9DAB-4A1D-AE12-5C7F8D75DB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A1979AE-ADC8-48A4-B2C3-364CE6B872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15CB5B-67DE-4BEC-B335-4FD4103AB6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722029-6A19-468D-9D98-888D973941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4413E1-9478-4878-B031-DBEF2556E4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A88DF9-BB98-4CC7-AEE8-437F400A6D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0C6A11-5257-43AB-8B61-D9949F6A43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8B9A37-2B93-499B-97BC-9EC1FCC00C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DD7051-B4F7-4C1D-8E3E-35EF8684FF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B8A5A30-1B56-40DE-B37E-7B1D866706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2E1EE5-F51A-4EC4-B87C-B51A5F535E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9FD2C57-1077-4E9C-8323-1B28789C5D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591136-304D-45E3-98E5-A1F45E53F5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E936C3-76D0-4745-BADB-2A8C4CEDC9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3C405D7-EA6B-488B-AC44-F19ACE4C4A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A32A65-1B5A-445B-9196-3BE03ECD68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022C3D-18BD-4CBB-A67B-F3B647CE09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36AE7D4-64FD-4028-90FA-323E0FA9F0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36AB5A-681B-4020-8BF3-DCA19AE7BC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F20B6E9-30D5-4FD0-8279-7EFE043AE9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C578581-2539-4F5D-933E-38E1EED5EC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588FF8C-0FA0-4F7B-A5B5-FB830F1493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8DFF1EC-6C9B-4B28-A3DD-CA55ECE517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91BB911-61FB-4C86-BBB8-628643A703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03D5DAF-53B2-4F93-AA58-2D0511B2A4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CF7FA7-702E-46B9-B288-E87A9DD84F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5656357-DA14-4D5F-B6D3-EF94884DC9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067170-9C66-4DFB-8401-C13E3CD3B9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AF6A8E-2F94-4B62-8C25-A3DCB76812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3F9B58-8996-4011-A764-87130F6F19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22F11E-FA5B-492D-86A8-B81991CFE7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86E8FCC-7F75-4139-80EF-C6D111D0DE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733A32B-33F4-460C-8E39-C0EB60FFE6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9B10A09-7CBD-4076-9A00-AFCD372067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47AE44-27A5-45A7-A196-038C368B3F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8BA01AC-2654-447E-8CE4-45412C4BDC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7DC2B9-BD70-4EAD-88F3-8F6E6D6D21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9F5A02-1D89-4685-8CE7-EE2842EB2E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A25A4D9D-7ABE-4224-8DC6-D820763F5A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0CD696-89CD-4D4D-8CC6-8D96ECBE02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E2ED7E-9C47-4859-B630-B1C585A777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6A1510-FABE-451B-A8F3-E4D6A10304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F43D19-7DE2-4AC4-BFAE-7B65FE8A2E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C6FB73-CC7A-422B-8771-80C24F79E7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887576-6309-4E4E-8171-4CEC7DA52C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29B9BB-C5DE-4E8F-BECB-619F01E883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70FED8-48C8-44A4-9363-7896719898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39BA8E-458A-4422-9225-95004EFA89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