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D7DA-3112-473A-8C63-EE93AD1DE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10D1C-9B19-4735-A2F1-3E6B83D63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12C1E-3AE4-47CF-8798-1CD2B3529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E479F-3ED7-4F3B-A448-591869DC8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83F37-BF02-45A5-B6D1-DCF8E29B6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D5773-66D1-4451-B85E-AFB3EDAD7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8937F-5A16-4A3A-9F05-C05A46F7D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0F7AF-B465-4C2D-9D81-F803DC086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7588D-DE5F-41A3-9FD9-552AF03F2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4A882-7355-4EAC-8D5D-80E8999F0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664F0-EE3E-4E44-BFB9-5BCB9358D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1D03B-295B-4EBF-9FA7-FEAC6D94E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13585-8616-4EE4-8A72-5DE5D8981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A2364-A5E2-4911-A02D-82A63659F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99C40-A7DE-4CC1-9C64-8F01FA116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A9BF5-3BAD-43D2-A532-4314EC42E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48AD1-20F4-4613-BBE7-FC2D35F4A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5D3DF-67B2-4552-A067-15FDDC283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B3A58-BA9C-4820-A780-437B9F10D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E540B-9983-49CE-963B-B1A98A195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337B5-45B2-4E36-B288-D7AAC94E9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1D3A0-4769-4C33-8ED3-3164E823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43F97-C119-4B8A-9996-3E2005A8D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D588-3442-470A-B9BA-9A0976AC4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57F7-697A-41FE-826B-84ED6CD9B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252C-D1EA-4D0C-AFF2-9DC9CCFFF2B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EEFD-DCFB-467E-A18D-1441FE280850}"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53A58EED-16DA-45DF-98F4-8C8F35C4CF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7325BF-1375-4D9B-AA1B-1DFEDA9E65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DD2A07-3114-4F15-B0A5-D8F2A58060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D27B35-91C4-49C5-A945-4D7F0E05F8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E44F44-E3CC-4416-A002-1F5FAC023E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5440FC-CA42-4F38-91C3-0CA79F6A50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4FEDF6-4693-44F5-8EBD-7E4FAF8304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A9BFB6-2CDC-40DD-BAE1-4AFEEEE948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E55764-3662-4D10-AD2A-27521F6C8D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9D1458-2DD3-41BD-B2B2-0259132FA0E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CF78B2-254B-4DB1-A605-8D9141B61A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F7EA46-586B-4432-9010-6F7B1A923A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6DCA06-1132-4179-82A7-FA2BF0FD1D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DDBA56-72C5-4E0F-8A8F-1F60CA56D7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A8B06A-A896-4F59-97C6-22900CD68E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E1109C-1DDD-4F41-9A1C-4873DB203E2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2D8B37-7382-4E82-AE42-A623AA275F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B88FBC-E9FC-4E0C-932B-DE07019570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396818-CBE3-4F54-9549-D21C5BD49B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DA4E5D-8C81-48CA-ACC7-1C9623D2CE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26D396-1B8B-414B-8E41-085B2E8ABF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FFCCDA-0444-481B-98B0-E21CEDFABD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EAF1CE-91D7-4EE0-AF21-D4CE9B55BD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134DEE1-933B-4276-8C1C-81C0DAEE7B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9C8EF88-6A11-43C2-9514-350F52597A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969E8C-FC03-45BD-904F-FA98E41B7A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6A6DE7-0619-4ED0-B4F2-AEE0F2B316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7EB732-03A1-44EA-AE37-849D759D9A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9049D5-302F-49AD-9387-46D9F6C4DD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A788E1-C45A-410C-AC00-D8714FC2F3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6705E2-40C9-4460-8237-4D2230C7F3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CA7BABE-1EE7-4A7E-BFD7-44169914B5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DCBA113-AA74-469A-A1A0-5515AED042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A4B343-3238-4919-9229-FF6BDFF4B3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241CC1-5F7A-4330-ACBC-C1A627EEC2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A5BAA9-5E4E-4F22-8A2B-0AF057025B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2B889B-8112-4A5E-AE0C-03F5867B0C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CE87D4-CC77-41CD-BDA6-925E086DF8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5FDC6C-F67F-4C25-8BDE-28935581DB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7AEDD6-70BD-4DD0-9676-22620C053A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4769C4-B1F4-4BD9-9FF5-DC54E082AC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C5CE25-53E7-461E-B244-6F5F504AF3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0DD239-16BC-4925-98D4-ED6EEC89D5E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F3AF3B-9C3F-4149-9496-B3C9C89682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DA728A-C809-4FCF-889D-DD3CB173B4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4EBBB0-54AC-4961-8869-F123811CFC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8292A3E-0838-4CB9-9656-5A7A16B980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02AFC35-75B4-45D9-8C4D-CC6323CD8D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C1F1F42-C640-4B66-B83D-A7A39B584C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523293B-570C-4FE5-8014-2A7AFDD011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9762247-CF8A-420D-9CD7-B438617008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38952A-A9CC-4D05-B656-79EF0BE161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F3A7A1-35A0-45B0-B48C-C97C6BAFEDB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C46E59-6B10-4C6A-9DC5-750A4C3ECA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204EA3-C9AC-402C-BE77-316EC12D2B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36ADD5-8232-477E-8949-B441028F78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7EFD02-61B8-44F1-895C-095173E0D87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EAEB08-1AA0-498E-A4A3-2688405037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4BE5FFF-A014-44D1-B858-84E553976C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95B66B-1AA6-40BE-B6E7-DFA3069D28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1D3E834-75A7-4A78-9ED8-665AF729585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61BED3-2A27-4984-B64F-25C16A9722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EE8424-CC4B-4EF7-832C-ACEABCF22C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5C66A5-DA0E-462F-B465-AAE969F24E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70339A-6155-4297-899C-6F4B2048DC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D435B0-4B7F-4306-AE33-A67EDEB2E30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5839672-6972-4731-B5D2-4782B452CE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54DCB2-DB0A-494B-B935-5CD39A01FA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BBC86F5-665B-4F3B-92B8-6943891D447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3890C4-0C2B-4EB1-BDFA-0DA98D6E60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918938-CA93-4F58-88A5-0930A76A50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D938AAFF-DDBD-4145-8529-0FD4A76465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66BEA2-CA2A-4CE1-BE0E-DCD774CDC01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77282C1-EA6A-4506-A68C-7EC45E35F4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E060B0-1A97-433C-881D-259D8527D53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F43DFF-2216-443E-BD53-6959494969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64BE87-E23A-497B-A1A6-8F3C8D68BF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3B8190-A42E-402B-99D6-163E068B2D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8CED03-13D9-4EDD-9471-DED275BAA2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9770DE-0880-4BC1-9E5D-A19F803E287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28CD24-17FD-4A47-AB99-C819282F3F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0CCB20-FC03-4C88-AE44-5D8F4B95DE5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4AB444-1FF0-441C-8BB9-9F53246BA27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F488EF-CDFB-4996-A630-7F45608111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CBD35F-5A3A-43DA-A45C-53A0352A83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EE91FB-4A47-4094-90EA-BF5D042B9B0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59C5A0-6B78-4B76-ACEE-C50825BE41C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B5BD97-3FF1-4A0E-AECE-6A790BDCA5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3788281-CFCA-429E-8394-0A368A8892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40E5B5-808B-4623-9ADE-1DC749619A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883526-12BA-4A1F-9AB8-655F7D9291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D3A41B8-5912-4E63-ACFF-55197958096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A09A9B4-627B-4705-8491-BB718A1B48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799AF6-DD8E-40E7-9857-C747CAB10CF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C75201-24F0-41D8-9CD6-2D8C8AAA45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50358EB-08F9-411B-85F2-A764802AED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C0738F-0305-4438-BF7E-4CB0E3A6EEC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018224-1CB3-4A39-9CE8-E232DB9EC4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D54962-2000-4FDF-A92D-F445A12DCC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9C6AC0-493F-4112-978C-543C92D1BCD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B4ECA5-411D-485B-B265-7B126B0322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621E1C-09EA-497F-81DC-1270BADB4F3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87FA8A-270C-43EE-8D9A-C9E9272AE4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984C84-E9F6-4DED-A1D0-1E5A94D7B5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2A21C4D-DEF9-4CEB-B46E-2C1EEA2CAEB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6DE424-3F81-47EE-B0FF-2070AA392B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30CDFC-77B8-401E-B3F3-4242F4631D2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DAA049-982A-46EC-993D-0C2795D86A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B810D5-C0AB-4D10-8C9F-C7FC8B12AA2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BD85F6-6324-46AA-90F1-4CBA334C3F0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500D1D-CC0B-4686-9495-BBA8016062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BD8C00-B552-45CA-BC4B-F9DD33FC4E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98AFD4-ADCD-4B89-991B-CED9100C15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729C53-8FAA-4FD4-BDA4-5E42F7D92B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773B76-434C-4514-89D9-4989FBF1551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BFDAC5-4129-4029-8EAF-BD47B27115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5556B7-3B51-4208-9C10-ED5EF11835C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A73633-A96F-4D06-A24E-CEA8A52213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2FC473-55EA-4A7D-AF69-176F0A7960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0B6231-A26A-4D7F-8BE4-F77DD3F4EAE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024C99-147E-41F4-BD92-62708D730E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A1C5A2-80A0-4C07-AD10-BEC2FAE153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2B2FD0-E44C-450B-B68F-C9FED57D8B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64858D-0ED7-4ED3-B2CC-B4CD391A52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DE9E56-E2E2-4323-A1F0-285B97C2ECA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1056EE-0D2A-488E-BC13-7BA8E4E56F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5A7E09-3641-43BE-A4C6-5B36B4B0BBD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4F40E3-7FB9-426F-A9F6-154044DBC183}"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872C38-0BDA-47EB-A289-B117292D2663}"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63F83C-D74A-45F6-9ECE-98EC8D029083}"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C8CCC5-09D6-42C2-BB50-A615E1F78CD5}"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3C7687-15D3-4C71-BEE3-31B253685E68}"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F62654B-C79C-403D-AC4F-CE598EAEE5F6}"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D64829-DD97-4583-BCBC-637DD6A70303}"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352805-99BD-493B-B4E7-300C374DF00C}"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E5124A-ACCE-45BF-9C7F-087CC2DC769E}"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2FDBBF-8F50-45D1-9409-26843A508FAF}"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8C2F6192-0EE8-42A5-A056-329CF90CB407}"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9BDA7F-C2BB-4534-9105-872C16DF86A0}"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03322D-53C4-46FD-8600-4D68D11EE068}"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C700FB-F2AA-43B5-8434-89DC72C4CC0A}"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34D46B-9C40-4160-9C2F-686F9A4D94CD}"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ABBC41-88B6-4FE2-BA62-9742CF2DF72E}"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C4AD78-BCA2-45D4-BB30-B5F27E8D80D0}"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50F8B6-1599-4FCB-8FA1-D90E4740EADD}"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FEEB80-DA05-46FA-95F2-FAFFB6D4EA69}"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DB8BB69-945E-485E-904F-E90BF8FA16CF}"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5691F7-177E-4B04-9F61-BF2FBE35D340}"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2F0C73-698C-4CEE-B125-C9AC149E371F}"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9EDA6C-FD35-4F64-B98D-59ACDC6DE6B9}"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D1A7F6-6D19-4752-B07D-4277112E5DD9}"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1AF2A7-9690-46D4-A707-87849AA9039D}"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050601C-C616-41FF-918B-2394CA6BA908}"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0FFDAF2-202B-408B-AAEA-726B39B3ADEC}"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C98307-2862-42E6-A17A-B2F21C8531F0}"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6FB789-5DAC-4B5F-AA44-3E6723D558D8}"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FAB9F6-8C8F-4DEB-9C0E-C5FEA12F8961}"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FBF2C09-5EA5-4C91-8D24-FDA7BF3AE3D2}"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2A8C4A2-7B12-4E15-8674-65ED00A52330}"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F84320-6F06-431D-AD1A-8BDAB2FF9A9E}"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FE9A6B-D285-46F9-A242-22BD5E3EED58}"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A04F40-CEDC-4701-9387-99F80CD44C97}"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2CEADB-8AF8-45FA-A242-952B809179AB}"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496ECA-CD73-44FC-9594-42DA3225535D}"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58D540-BDF8-4995-B682-D16531EBE1B5}"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29FF3F-C969-4753-B08D-5CBFE80BBB9C}"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7F1C3CB-77EB-44A5-B01E-F77145918E2C}"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6C189C3-6120-4A3E-BFB7-B70DE4361916}"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0DC34EC-1993-4468-9E61-2D931BEB88B2}"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9119E8BE-599F-43B4-AC1E-A6CA51F16C5A}"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77DEC9-B736-4422-9CD5-5905B97B7443}"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0DCD68-80C2-4770-B77E-D1C24FDEC621}"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938689-BB04-46BC-85CF-9DEBA4D0E4CC}"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64DC31-A6CB-4EE7-B2B5-B28E221355F5}"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06A26F-708D-4B67-AC6D-F2ED74836A8C}"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3B7874-3AC8-413C-BD35-D4096DC4B7E1}"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4AEAE0-7576-4C38-A697-FD477E3D8363}"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2C9AAA6-6ED6-46A6-B5CA-4146AD197BB4}"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515EAC-9CA7-4556-8920-81BCC840EEFD}"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007C00-4D0A-4A34-B420-4B10188269E1}"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25B6D9D-20E5-4677-B8AD-68DA645E4BC0}"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6F083F-51F6-42AB-A0D9-EF16AB9907E7}"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37671CC-81E5-4453-BA2A-97086DD569EE}"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9674FE-B56A-456F-BBB1-481B07FE80B1}"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D4048B-8F3F-4AE6-93EF-F6E088D3C9EB}"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89028F-9AEE-41B6-92B9-59286961AAFE}"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B87E1E-E6F9-4F10-9851-96126D36FE90}"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31413B5-2C15-4389-BDA7-3E6A0FB6C963}"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69BE62-ABD9-4B95-9BC5-BA5E3CAECF08}"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E477E9-4709-48B8-92C2-41732744F66C}"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1B241B-FA33-4BED-B82A-7F287E3212B7}"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9B1A8C-7911-4A37-B4C5-A9F189EBDD80}"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B12DF3-17D2-4551-95EA-021AD52A0569}"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915DB5-1049-4B46-AB42-BDDA913E30D7}"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559646A-7907-4FFC-A328-394DEAD44413}"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68B20C-E607-472F-AE0D-105F3EFBFE79}"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B708E0-789A-46B1-95F2-1F10F9D7BF64}"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98422D-5A2B-474F-BC7D-CBF19009291B}"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500DFD-7E9B-422C-9A25-CC6616F62F7B}"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D2A60C-4DE6-4EF2-8766-8E530FDBFD04}"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A72E18-AC55-4199-BCB2-930DA8A8BD0B}"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327AD3-AB6E-44AC-9DA2-92A560A0216E}"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88A002-F707-41F6-8C4D-6B3FDF5952AE}"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1DAD9A-19F6-4DDB-A264-498E8C27DE7B}"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FF776D-7CEE-4A7C-8EC1-97BBFA11D401}"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40E033-778C-4C51-98E0-0238B07EE41B}"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AB16A2-4C56-4DAD-8C79-5422DCB36419}"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F2E0EF-9BCC-4E5A-8652-AA33990B8C6A}"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2B79ED4E-7BA4-42CF-B248-43B2B5984C92}"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9C116F-3644-4A74-B4F3-CE2703160227}"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55DD94C-293C-4BD2-910A-02062C82E720}"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D0A97B-9FC3-4C71-8E17-FF632CC1FFF7}"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F8471B2-2C3C-4B32-83CC-40F0A8D11273}"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0867531-8BC8-40EA-9451-626E7659AF6B}"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4AB3DB-AB00-4083-97AA-B7114E961871}"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E7C89390-7E9C-4E5E-8CCC-DE7B9D3EE956}"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1F1F51-23C2-46F5-A226-144253E3E593}"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F61D1F-2719-48FA-9726-9A75BED1A912}"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2516CB-9093-49BA-A620-4B9D5D100124}"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826454-1484-40D7-AC80-472F1075BF01}"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1B42BB-62A4-491E-9848-C7776543AAD1}"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F758A0-B70C-414A-AFD1-18A821B0C690}"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DF9C97-972C-4C35-B68E-ECEB3D14D1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10A13F-C344-4129-9326-1F5777647FC5}"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22B6E0-1653-46A0-B609-F95D7A303B57}"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654E071-DFF1-4CE2-AD9C-411EDF6FC3FF}"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8CA9261-68A5-422B-9783-33A6257A3A16}"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BCB8BAC-AD62-4D99-9EC6-69A87A0E5E32}"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23C3B5-91B6-4F2E-A4E2-D5870C2BE8E9}"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A4219F-CB3E-4806-A74A-8B9DEACFE5B7}"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B4332E-A226-461D-AD9A-D26265FFE4BD}"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88C921-46A9-4D27-AC40-970ADA9A3781}"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A154915-0E87-4A05-BDBA-0351707A4CAA}"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A76116-7414-4D32-8D5D-6796A0F5B3C0}"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9854A0-40E1-4A2A-B0C3-CFA4BA708CCF}"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2809A2-2169-41D5-9926-E89D33C7CA92}"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C2625A-4D83-4B54-A636-47AC7B193310}"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4B6E4AF-8A14-4DCD-95C3-6122C02E888C}"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83726B-3EB2-4CA3-868E-206253827A51}"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90877738-0CE5-45EA-A121-2A8C0FAC6451}"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EC57A0-E1F0-40CF-B670-C12ECC525ED5}"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2A6466-1346-474D-8B3F-775E9353054D}"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7FF1F3-04CF-4231-B33B-BD887FAFA6C9}"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DD07B73-9982-4B74-A600-81E588DF8317}"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52DD18-D3C7-4841-81CF-C5232AFF3C37}"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514260-E458-430C-A4C7-E02DA8D1F318}"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B380EE9-5DD9-4297-8691-B89CEF41E2EE}"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74CD24-406E-49DB-89F4-6A62D39E1B67}"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D090B7-07C4-45AB-B0EF-58504B39EAD7}"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C966999-1F7D-4850-AF13-F55912B1A53C}"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7E5939B-D6DF-4D97-BD75-E264F7A7245C}"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C35ABF5-2E8D-4159-907C-16AB84467048}"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9F440C1-6164-4565-BAEA-A5BF63532456}"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8F98DD-A398-4D24-9F97-9BBA3CB025D5}"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B0672A-579A-41FD-9DA9-D4BD63C543B7}"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7487365-E1F1-4BEA-8CD5-42DA4651EC16}"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C2AE7A-6C80-49CD-9336-DB201AD6647B}"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63F022-DC7B-4DCB-8504-33B1E2DDA30C}"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F2513C5-7500-428B-AEDA-7D214BE6D3C1}"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0CA65A-631F-4274-B959-8D73ECE04B85}"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DC2AC05-8033-4A78-A26E-E87C90893F64}"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B3A231-A587-4A5E-A3AD-76ADFA77264E}"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49CD75-B1A2-4A28-B7A6-0B8F883D8F46}"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E5DE1A-10D3-4417-B4B4-438F8130C414}"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2B22FA-75FF-4B0F-8AC1-AE12C4FF7B0B}"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CC1E08-2701-416C-A159-342D8912334F}"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1822758-53EC-4ECA-B5FA-09AB8C027989}"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840D27-F11F-49BE-8911-453D73A90911}"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CFF3E2-53DA-4472-9129-478CB630431C}"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6EF7FCB-D94E-4C06-AA29-4B04D1D21592}"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DA164F-1426-40BB-948A-92866912CB01}"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8759831-BC4D-45BA-A374-7F8A0493D744}"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54ACC3-A2A3-4AD2-A837-D05C0393E962}"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9650584-D646-4F82-B2C6-94A06A1449D8}"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F75E511-9A86-4F1A-A519-9C13616277E5}"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B99355-B676-4C9D-9D6A-D57D7E2FB513}"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55E49D-8858-4E5E-9A9D-0485A892C0A3}"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547DDF-EF94-433B-8170-A32CFD3820B2}"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FF8EED-86E4-4CAA-B378-F755EBCCCA8F}"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AA98BA8-1EA0-4C89-9F83-96D643DF7CB9}"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A754BE4-A400-48F6-92E1-CFC6717BF451}"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1FC909-B75B-4245-9DFF-CF030759D2DF}"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C9C6AB-C4CE-4F10-A2A9-C340FAF7BF14}"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2351CF-EC6F-458A-AF17-0EE5532422F5}"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C9E2D0E-70B2-4FF0-9610-A1674AC7A50C}"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652FAB3-F4E3-487A-8D8F-2EF61CFA907F}"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F14237-BA1B-4B04-BDA4-2D99EA22074C}"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0DC70A-8E72-4F89-B506-B287AE2F6BDB}"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CE9244-01A1-46F9-AFBD-6C2E29CE6B5F}"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0F1B6C-9B91-4559-9781-AA8322E238AD}"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5CD3C5-87FB-40A3-B7F6-911C8EB1FEC1}"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78DFFAEF-AB10-48ED-9406-8C79A2AD9CEE}"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E41E5B-6ADD-4135-8707-18B9F97AA139}"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9657AF-7019-4F22-8B1E-8B58E64ADFDE}"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A78A81-0736-478A-BA8E-D7D3DCA91AAC}"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8319B7A-5B19-4042-87F2-1D3883A170E7}"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CBAF0E2-8614-4081-A06F-16AEB4F592CE}"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71E7D8B-15B5-4DEC-82EA-F3E1565869E5}"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9E1506-2412-4572-B211-2296040C89DF}"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233FCD-B2B8-46A0-8DDE-778A324B1E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B174B0-D7CF-4F73-844C-89E7BD5B55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65739F-B3B2-48B0-91C9-4B9DFF495F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1D4133-1BAD-4DF8-A830-DAEE19439F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ED3105-C2CE-4334-9A08-9F30844D67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679F6D-E62D-428C-AE0E-74872F47EC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162966-D4AE-4CB9-BB54-14E58E3B22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851E2F-9DC2-498D-9834-08F272CB12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0E6A7E-40FE-43A8-B6A0-020B3541EE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2E7F9B-8EC3-483F-8F3D-F8B4487C21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A5C858E5-A2DE-493F-9B20-5283E91E9B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CB4F5E-0B3D-4AC4-B227-F0696ACC3A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EF3F62-39DE-4846-B006-68047F111E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8051B2-F52F-4927-B9B9-42D087303E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96FAB8-6177-4CBA-A9E9-0E89B7CD60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211AE4-A489-44F1-BA86-C83F518605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2DD773F-3548-4624-B27B-F69067A358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7F6C2B-F3C4-4248-9164-4D4D889DEE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6B45C6-9371-4ED7-AE96-1984476770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C64247-8617-4224-8E92-F46A056DC2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B21F43-DFD3-41B8-902A-C2ABCB7B4F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78B559-5912-49AA-B6F4-6950801913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FE10CFF-75D4-40DE-9CD0-467292C1A8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54F2A8-4360-431B-A7C7-52C9E5F6A2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FFB113-EFC4-4F0F-B476-8F08F41092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F4CBD5-C811-417D-89C6-85B07D4418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BEEE69-3295-41D1-879E-865A024B70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6445EE-0A36-4E8C-8A85-7576970241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75CB3C-61B1-4935-AF91-E3705B3F1B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D2BC02-5858-49B3-BEDB-10DDC1AD3B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442D764-0208-4930-9F45-6274E66AB0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8F0212-2244-4B8E-91B0-8D4D6AF470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7470A4A-0382-4A33-B10D-1587E48B0F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7AFDEB-928F-47E4-B24B-58F6943F2D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854206-C839-4146-A023-04D490FDFD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A38B845-4DF2-4D51-BA73-05D127CDC4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CC69AA-E5C6-4CF9-B1F7-3FCFD0C564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FEF14A-BAD9-4980-ABF6-552C71938D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01DCA87-10BD-4B8B-8F68-ED3C22E89D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D8AE1B-F79D-46E5-AFA9-63D52FDA6B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0C4EEA6-210A-446D-B201-3881C3C64A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4BD08DD-F758-4597-B655-25C5BB9F34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741D0A5-CEE6-4218-9128-13A21E73DE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50E70CC-6C33-47C9-8EA0-DA8D109146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CFB0425-087A-405A-8229-E22B6E835B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2164144-1DE5-4496-81A4-0CB8F70514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1380E4-1C64-41EB-8B4A-2B7C4F54F8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EAE569E-3E41-4696-B11F-FD65F9C3A8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13141A-7916-4AD2-A45B-5473160F81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53E4AA-F572-4599-A56F-B4012BE80C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79FCBE-FFD1-40DA-93E3-27A654D462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5529A3-3858-480F-9649-96EB675D1B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3052222-9F2B-45E8-8CFC-2A3A42F758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23A619C-38A5-4AF4-B65F-FC37A92941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7442584-127D-4B51-AF6F-3ECDD34004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86FB61-7511-41C0-9C9E-B8B5A30452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5FCB04C-3256-4F8F-AEB7-A3F38AFF40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0CD2D3-CEBA-4C86-A362-64CF682707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B796EA-7419-473C-ACAF-33115EF1F5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4C28438F-2927-4427-B338-90DB618F61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D4A822-0674-4AF2-B8C5-BBDA895E27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E62AA2-4832-4406-98AD-7CC88FAB9F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C21847-A53A-4362-9327-AF77215518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BA3DBE-9C56-41A2-A813-FC68C7CF05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AC912E-A8D8-4E83-864C-EB7BB21BEC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51C881-1B5A-48C1-AA97-451FE4DE98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F8560B-3679-45AB-8DD9-1F4AAE6587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F7DFEA-89C5-4B5B-9FDE-11E1E5F073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C0D310-57C9-4801-8961-5BC651C949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