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7172-37AB-4CD3-8460-10205655E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53A6B-E97F-4F21-8551-3AA18D0DC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C9151-648E-414D-AB07-13CE7FF8D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F4F54-D847-4968-BEAD-08924563B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3E539-31B7-4C98-9DA6-16F41C0E1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35DCA-C00A-468B-93F9-89B7CE90D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A761A-AF03-4CAA-8891-4C77C3B15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563A6-CC7C-4EED-87F6-7C250F367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BA0C6-73D0-4375-8371-0E9BA20A4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AFAC3-1F81-4BB4-8FCE-E54D6186D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954A9-6ED5-4902-8D4B-D0276AD51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E35CA-F455-4C47-AC4E-9013083CF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DA8F5-5C93-4060-9444-09E4A8258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DB32B-CF87-4398-ADA6-48C2BFB03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C8236-3FCD-490C-9026-3B4472A0E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814D0-744A-43B7-BAAB-94DECDA23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AA65E-023D-4148-8D6C-09FD14EB4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E4D6D-0515-425F-A281-3E98626E4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19E3C-1C4E-47A1-8BF4-94B8B6C8C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082E3-E961-4832-8489-26FCC365E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33D1E-FBB1-49D9-9210-356D3B524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F2A5B-DE29-4BFF-BD1D-0D513AE66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F286B-DA4B-4EC4-906B-5EEF2A9C5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82793-602C-4E51-81C4-AC3923D05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D372B-5AE1-4468-B4BB-77C3BA679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1F8E-D6A4-4D41-B9DB-997018A89BC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A024-6072-408B-AC6A-87F6BAAE7F0D}"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C4EB3744-193F-4FD5-A72B-2ACCB00D02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CF66DD-3DC1-4F2E-BD1C-B5FAC21667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968A56-94E5-4CF3-989D-08C3CE0AC1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6326B0-3C89-43A5-A6DC-744227D7A0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4CA0A5-6124-4F09-ACC7-80470B67B1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38F8B1-069D-406C-A96A-998E6CBEC0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13EFA1-5190-459C-B7E4-605DB053C5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08E6D1-BA42-4993-96E6-64C4D479E2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14ABAE-66BD-4C4A-B84D-9E5A5B6C5F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F7619B-B387-43A5-BB86-A72EA382EE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33638B-9BDC-4708-B5D8-26711F8077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87558F-54C9-443A-80EE-53FDCDEC8D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A995BB-E40B-42B1-9D2A-77C25FDB9B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AD528E-AAFB-442A-990E-3DF8609F80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5BF0807-C644-4454-A737-1B579CBECD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B3CEBB-F6C2-4D1A-B207-20BA550A42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97D5B2-F7D3-4D23-BC50-9E0023A9D2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6B5B25-0BB0-414A-B5E0-F9040ED97F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C2EA67-7592-4DD5-83D5-2CF94895F8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740A87-9AB2-4D02-A2AD-BFAE1F06AF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A19742-2A0A-43FF-B2E2-F013E924AB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B6AD22-321F-4753-BA2F-8D4724CC23D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483002-4E90-43EB-9F00-9D0AAEA565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015650A-5512-4D0A-B526-67D977BAED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96B8F85-6275-4589-90AE-A46F29241C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4C73B6-9E32-4FCD-9C64-F20166E9934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F79C52-C715-4857-8896-33D49E0497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0EFC32-369C-433A-A834-F5BD051740B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444232-2CE1-4710-A8A5-C88F904593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F6F04C-7859-42EF-B6F2-8565447192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06DBC1-34DD-4FE3-B411-E669836E81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5AD247F-899B-4870-A034-DFD01DB6AE5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3F56CBE-FC96-4860-8482-34A5AA6EF7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BE622F-BB4C-438D-8D28-54AC92DB9F3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E2E000-9995-42F0-87CD-5E38C7C936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8B7557-3529-4E4D-9539-A6CC2FDC59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94B84E-B50B-4E2A-B9BB-A349B5A4C8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6B12B8-CAD5-4BD0-86CC-56C9CC61FC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BA823B-2F70-4356-B654-80083FBB4A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88B888-3EE1-4413-B89F-7518FF45DD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15A0BA-87C6-4147-92B3-92F2EFEEFC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6EDE94-469C-431D-A590-42CCDA4CFD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94202D-6A4F-499D-84A2-3896C9143F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B0BFCB-9822-470F-936B-458BE2E3EEF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D18D45-6187-41AB-8A82-C65CB210F2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3F88D6-9C92-4D6E-8D7B-9C3C341489B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2B16255-3192-4356-AF2D-66C99AE6E3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6C9FA2E-F32E-412B-A4F4-3C8BF50B56D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5421778-106F-48FD-9D4F-9BF4003D3DB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5EF088F-66A8-4072-9A36-1036A9AA1E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D70094-C6D7-4224-AB8C-A387AB74CC1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21AB34-DFE0-4622-8E25-F3D657B6A7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A6F1DC-03CA-40D0-8BD9-2AEF2A3CF8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B4FC65-7948-44CB-86DC-D926418E51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A6E620-F375-4C5E-BFB8-36550426D1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32E8BF-4F43-48A8-8E76-C8D568BA79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B20D2C-C0F6-4DCB-98E6-01138EEA48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25FF29-7965-47E0-840A-B25E43BACF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62CED9E-89FC-48D4-8D04-0AF4628BF1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435463-8F56-4311-9317-BE55EF5119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60C37B2-90AC-40D1-BC35-1A137538C8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2E3EB5-4B16-48D0-9DAD-8E03A5A8F0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337CB2-22A0-4274-B20C-140E0B4475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151494-1BB6-4FFA-859A-33F33A372C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98645F-9D70-45A8-8293-625C04287B8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F1F5F7-869E-4BA7-A24B-DFEE43FD57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E6C67A1-243D-40B2-9252-DA11F625D89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7BAC8F-E319-407E-B7B6-430953A436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403C2E8-9D8C-44DC-BF13-69762C9779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9A7EB8-402C-4A40-B3AD-F7DDE671E4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00F519-CDB4-4F77-ADBF-F862918118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900F8E08-A903-4FB2-8396-EEE6816900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E3B737-A4A7-4F9C-A1B5-8D88FD0844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4C26D41-7588-4F08-BB82-1438ABEF3F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60EDD9-1821-46DB-863D-4D1370AAAE7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49C172-CBF0-4AC0-A34A-C52BB76817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EF7DAE-68A7-47CF-8E2C-2F67993A26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5E775E-FA01-4AA9-A824-8A9809CDC1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679A21-66CA-436D-AB30-7FD6FF6B3C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2925F7-C1C4-4592-9BC8-B47AC8FDB8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B32A50-3B47-4AC4-A62C-D2AFA65E7E7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C5FB27-A32F-4B9C-B638-1D19770B2A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6C44C5-2226-4BDF-806F-88D65BA609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AC7737-E05A-4E7A-9B5C-25876A71FE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C3F774-451B-424B-8543-A7E5EF6FCCA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608EDD-F44A-4B45-9BA1-114A75F0E7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772F3A-BDCC-4979-A5D4-12FE5446AB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4BFCC1-3826-4153-9BD4-77C7A7C857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45306DD-9EFD-46F3-B276-3E92A6C8650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74E37D-1182-4AF3-9A1D-46B9F9EB2F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22279A-4FF5-4C57-BEED-4192D618335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F180FDB-81AD-40C7-92AA-CCE953E9EFB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30C5C5E-ABED-4791-861D-A7F7CB35AF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B8BB38-2809-4724-A07D-C4AD9DE80F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588374-54C4-4F93-B575-0C52657228A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6450D5A-A9C7-45E0-8833-15FE379B6B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4C95B2-B7A7-41A3-BE6F-5832B9D9A9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6DFBB6-8BE6-40A3-9356-C40C974D960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9D8083-CCDA-4EA8-A4F9-FF637C0AC2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CFE4C5-AB92-46D7-92F7-6F725B47DB9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3D79E2-1048-4117-9BC7-DD88C5CDA4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EF8F73-E773-4863-A9B2-2067C09C53B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3276FA-AFB9-4560-8831-E70F64189F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20DCA7-6808-42BE-A229-355F1EA4CF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F1543D8-6232-4641-9CF3-11247DBB5D7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413E64-B0EF-4045-B16B-FF1609ADB3C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99BDED-5276-43A9-91EE-8B3078C657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FCAE2F-CBFF-46D8-A1D0-36F22DD994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0C062C-E740-4580-997C-1692645B38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74B11A-A9DA-485F-B9EB-EE0E3C47BE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A50B07-5B6B-4543-9659-185DB3CC47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4D8C90-732B-4F24-B0D4-85D540AE77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BCADBF-2DEE-455D-A887-708D0417B7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213A4F-460A-4831-B67E-E67655C536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E62E57-A928-4E84-B1B0-766E5D53A3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4BCDE5-9492-4A8E-9973-7F7E5045E4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4DB6CE-A41D-4B3E-B670-FDD1FCACB8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DD73E8-E5B0-4248-8D15-9F8E815D62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913B93-9360-4127-9724-CD804A356C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B76030-7E62-4037-BC03-DBAAA4AFEF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85687C-3CEF-4638-9779-5066763C84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67D16C-088F-4D0A-8BBB-527B31D3D8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EE10B8-1789-465A-9E8F-2DA9D93731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73F3C9-668F-4F9B-825E-3B585354C4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5D3472-708E-4B91-A401-E394965FBD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4E8CC6-36C8-4D9C-A932-AB6BC4C908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36D7DE-C445-4F6C-96DA-241892AEAFE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3CC84B-D846-42DF-AFE0-3A718658A34B}"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534BC1-2EF1-4638-8434-605338EBE4B4}"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4E53AC-A680-4A0C-82DB-610918B242B1}"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AE94D2-5348-4DE5-8849-C934E0368752}"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315A04-72FF-4646-8D80-BEE291874F3D}"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A08A12B-52F6-420A-9F54-5060C43FCC94}"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835F85-67CC-4FD6-928B-EC009EF6DD7D}"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350FB5-1A01-4B0B-B13C-AB732AA4E0F5}"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AEC4C5-0C55-4C6D-BF9B-84F4444A3105}"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DEAD5B-465D-4A49-9AAE-F40CDB77F586}"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82E575A7-A593-4A08-93B0-E4796188851F}"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68C015-9385-4089-9DD5-525A51D82340}"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7D7172-1A42-4106-8066-C4B7FD7B0D60}"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36AF67-26EB-4584-90C5-115C75C58172}"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247849-09AA-4E0C-8B2D-E3D8BF603AAF}"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FF6D20-4E5F-4E32-81B0-43FAF67FF9C1}"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34CF63-1773-4B74-A26F-04BF4FED7BF1}"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9BC5E5-350E-49D4-AA43-42FDC5B6F271}"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FC6CEE-2D6C-4BB1-A5D7-CEF576E5E1CF}"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943B9AE-FF50-4816-9C1E-9F2995F42789}"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FB742C-2E4F-4066-B0D6-272A14488DB9}"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8A16CE-49EA-4394-A9A1-4D65FB78266C}"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9DCD49-3C8B-422A-AF3E-54A3375E54C5}"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A727F0-2FE7-4CE4-8B74-72FAD64C9ABC}"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CDC232-2D9C-444B-9030-B0FA74C8F28A}"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AF2760C-17EC-4A60-8047-6982D2A6304F}"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013AE9D-1AC7-4373-8F9E-9E13FA1834F0}"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91FC77-C54E-4309-989F-CFE3D89D9A39}"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8ED331-F27A-4E4B-A1AB-1FEB02492E5F}"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E8399C-B734-47A1-863B-ED56611F7B22}"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20EAC7E-F068-4067-89CF-E5F6D21799EC}"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EEDB393-3451-4C53-8195-18619EDC1241}"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BCC377-6DF6-4488-AFE1-91613E2A3274}"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9FC055-2CD4-4DDB-8E9E-C4A6D56489DA}"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4A4E2A-92AA-4D88-8F3B-3AC859B4ED0B}"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CD7A5D-7476-45DE-9321-B1BE2E939533}"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476239-62B5-4E79-A988-7A94A435469A}"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FD1D9B-6698-478F-BDE5-606D7984BC4C}"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CA66B8-A738-490D-B0D8-924E8CF18F01}"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E372FA1-6FBC-4300-8052-639B8095C055}"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6145341-9403-472A-A475-E90B6EB6ABF7}"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2FC2716-1512-44A5-BCB6-AB2F44FCB608}"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B378A001-BCF2-4F0D-ADD6-3E9A7CBBA1AA}"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9935B2-34DB-4620-A90B-D94BA2588EF1}"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17682E-EF93-40FD-97EF-C8855F4A32E1}"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FB4730-0386-4C2B-BC39-A7367F0B4B24}"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32DE83-622B-49EF-99CF-7F115D522F83}"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41DF63-55A9-45A1-89F2-0D0F592041CA}"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7E72B9-C5EB-4824-8498-5439AE36BA56}"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180746-A666-49B4-A087-A4FD737D0090}"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CCF5F8B-3845-4742-A8E2-233D6E9A3217}"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B341DA-9644-4A18-B6ED-645497556F33}"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803A54-AD4C-466E-A5E6-10D105EE596B}"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F462D4B-3E92-433E-9271-660364544C4E}"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2BCE87-01B0-40B7-AC2C-D8C4A712FF80}"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F847FCA-BD4F-4CA8-BE7A-AF13193DF681}"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3552BB-E1EF-4B2A-8D0B-607D48B2BEFD}"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81E6F2-9178-4DDB-B351-12E8E04561DF}"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9F622D-133F-4884-B285-952624ADB4A3}"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D2F449-5F3A-49FC-BF9F-3D0949B1672F}"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6BFDA42-1A9C-46C5-B723-BBE2B98A83AD}"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857F3E-D038-42F2-8F64-5991F0340D4E}"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DB78F1-A919-45CC-BB0E-D436D11CEBB5}"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4B06B7-6045-4696-BFD5-787F24CAE7BB}"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231FC2-8242-4E18-9F69-664BABA88841}"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5D860E-897E-4A1B-916E-FA47FCDF33A3}"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554A90-C76C-4BFD-8C35-E52E90C80177}"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0F291E-A1FA-47DD-947C-A056DF30B24E}"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082263-4C21-400C-9975-1581E7200D38}"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E248B4-A3AF-4717-A581-A910321488CF}"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739CE6-362D-4A48-8B5C-09A86B5D47F4}"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849E4B-E654-4345-A317-FBE095FCB013}"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0B34FE-A04E-4E51-9782-972477FBFA9F}"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F1AD0D-BDA8-480B-9B7A-96181E172E04}"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C3ABC6-8037-4B2D-86D8-D9E4CD600C00}"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0C438E-32F6-4BD4-9260-D459A8BD40BD}"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D17466-3CBF-4363-92ED-6541720E393F}"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92FADF-13E5-4B51-9E94-CBBE8250AB6C}"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CB9EA0-A80E-46CC-8CEE-175AD2F2751F}"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63FE93-3C35-4CF7-B29F-F41851A8CC86}"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8DDA11-8A89-418E-846D-A2B679A88BD3}"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565C66B7-72C6-4832-95E1-A4AAF2C25D9C}"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8A1574-DA2E-466E-8CA3-95103E6AD147}"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2358DF3-C5EC-4776-A9AF-C5FC37CFFBB5}"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B3BFEC-0637-452C-865B-64ED5C6E5BB4}"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FBE18C2-D532-4B6C-BFCD-E05B9FD14CDC}"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17ECAFD-249B-4E79-B41C-569E0267A3AA}"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57DE19-9D5E-4391-A7EF-07067FC3A3B9}"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9D82E027-EC93-47A8-AB15-BB9864E3F595}"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2F852F-763E-4CF5-A375-81E77A999B3C}"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D199F8-CE52-4559-A850-DB4B357353AC}"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2344D1-F20A-4EF3-A7A1-6F7273BE369C}"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2B3626-DEBB-4049-80E0-C8B8E3C75CB1}"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3F213D-4972-46EB-84B4-03C00BA84DE5}"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33715C-2BDE-433A-9EF0-D7A4D5D93F40}"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698537-5C82-4DDF-B957-A9C58E5243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EA78A6-A876-42B5-9592-622C9C8FA26D}"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8F282E-2E8C-4BD0-BCDF-8B5E84CEF0AA}"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F7FA8A4-0CC1-478A-B830-4AB74E9943E1}"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7F6F40F-372C-42E4-89B7-417230D570DF}"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9655F90-262B-46D0-8463-54A1037E55C0}"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70A296-CD34-44FF-B4E5-B533F2C44CDC}"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C54770-EA1D-467F-B697-ECC1579B464E}"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63B212-99DC-4A5F-A17C-A1EEB5EE13BB}"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9BC2F9-7339-429D-98CA-0456A41E3862}"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336EFAC-E382-4253-A3AE-5849AE219455}"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D57069-805C-4D78-9BFE-4CA400686290}"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8114A7-4D11-4844-A13D-40A90C167B0B}"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C29696-0A74-479E-B308-502C039A0651}"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8C5DE1-4713-42D2-BEBD-BFEAB6950DF9}"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91178BA-21D8-455F-8436-1AAC4BDA5649}"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3CEAF4-B7A4-4DBD-95A1-68470CAC2702}"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6F1B78C5-1340-4564-AAFD-C2B645B5E4DA}"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7BFF23-48FC-429F-B525-2C6E9A265E92}"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C44FA7-2642-4135-9440-CA4C44BDDE11}"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970F80-1469-4BC9-94D8-ACBAC3CD12FA}"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23A980D-E577-4F32-BBB2-B131E0794CDC}"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D9EB32-5A47-4EF7-A665-63798D2C8491}"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980EA5-F84C-4EED-BDC6-C00E7179F373}"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CC0DA68-C7B4-4D32-8D68-EF73CC0B30AB}"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C7435C-CC52-4CD2-BFCF-ACD2D44D4E28}"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A023E0-5C5E-434A-80A1-C781BFEEAC7E}"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FCF52C1-424F-43DD-996E-5B6575A4DB23}"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1EB07E0-9DB0-40F2-9964-BCE8D3C3B203}"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B28F343-DF05-4B59-8831-BFDD50527B6B}"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6C63429-F24E-4081-8013-FA3339247209}"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286A93-C91B-4431-AD9C-DED1CFFE1D38}"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90D01A-B9E0-43EE-89DA-DB23125D5754}"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BB29925-B46F-4786-8A32-9E85A3417426}"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845BAA-5120-4396-A1E1-55B456CC43A7}"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DCA11C-4F0A-4AAD-8B0C-06A53A9D5723}"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DF33EF1-6A9B-4D92-B82B-0FAE492A8A7F}"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07453E-F15F-4EA9-A37D-6190D9A5DEE8}"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70DD995-8919-4B94-BBE7-39B67EC99C9F}"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634D8A-1C86-4B60-925C-CD2D25375D54}"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C65E69-554C-4DCC-BB38-8AA283E316F8}"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5E95F9-9DE8-4F53-B45D-CEE9119E065E}"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0058D6-452E-4D44-96CB-7BEAC6C67CC8}"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B18F02-D03E-4AE4-972D-1C5334DE279B}"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B75009C-C56C-44C2-82FB-975FDB07F444}"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374659-7655-4C64-BB04-0EE4EC5E64CE}"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6DC6F0-7CC9-423E-AA96-7F81346EA99F}"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BA3B7DD-58F6-48CA-A93E-040A77064D9F}"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8BCE2A-CC01-4034-BA4A-0C1347FA7CA7}"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415F914-9B72-4B54-A0CE-8F5696B4EBA1}"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DA6787-14E9-4BD9-BF24-966C6D599069}"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5C3FB0E-1D3E-4B0D-90DC-4E855EE11173}"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FE6C9DF-FA65-448D-AB23-DE6130D73D5C}"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1FD668-36C6-4324-B380-82BCB55E2F17}"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536D3E-D83C-4FD1-AFE8-650D1245A619}"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DEFDDB-0A44-440D-88D9-086C14F878BA}"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5F4D79-57DC-4B83-A00A-5B28A2BBF4F6}"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EC0C35A-5894-4730-AAC7-17A269034321}"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806831C-09EA-43D6-B475-C407218D7FAC}"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126835-BAEC-4A3D-A608-BA19A71B020F}"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D24E69-3D00-419C-A655-06AAA89F6DC9}"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1BE009-1939-47F1-95A1-CD79A36B7716}"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9E8602E-DB0F-4DA6-9564-1CD3EC788CA2}"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B4B0DC0-3527-42C8-92FE-428E4B2A6422}"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0BA1DF-10C4-4346-8F82-9060FA4C81F3}"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5402CF-2A75-48B7-BC76-0CC6BD098459}"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5D3CD1-0349-4672-AF00-0959BC68682B}"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FEF56A-AD99-4C78-A7B2-1A64C3520A98}"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5DD4FA-E585-45CB-B503-BADCE76FE959}"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E7998944-8BE7-4036-860B-C2C0CD88AC18}"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4548B3-4A61-4879-93CB-5366B4B13361}"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3EFE51-A5B4-45AC-A012-8826BEF34CE6}"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30A14B-58A1-482E-8293-A57CB9B8BC33}"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2493232-CCEF-49CE-BA55-A634C7E29212}"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AAD978D-EAF7-431C-B22D-1097E2BF026D}"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2F9F372-726C-4AD8-9E51-ED045EC9B2A1}"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6C9069-8A6A-4728-86F5-A44485688100}"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0D8BE6-0270-450B-9F10-32E2724472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6E4B27-5B5D-41EC-92FB-8F0334F7B5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009616-06A9-4A70-8AE5-129D54AA0B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B697D7-D7EB-4141-9C67-3F79C7BCA1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077111-E715-490C-BA62-1B6035684E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F51DA0-F46C-49CD-B91A-6906029366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467D81-695B-4E1F-BBB5-8A59F0C689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92C2EB-E71F-4EB1-AF20-F13C194419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888FAB-AD40-4E44-82A5-161A36C230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5B3C5B-B5C8-46AF-82C7-D68CD46384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55A8603E-4BC3-4E53-A6AD-15E5497F05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4B71A3-92C0-4D71-9CD5-80D95A47CA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767E39-3580-4DC2-A10F-B206B013CB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DF7873-C8AE-446A-A9CB-AB26016BFA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819506-90DC-4FF7-A976-FB66B12FED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401F2B-5C1F-4160-B536-8E13E31752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49CA7BE-D747-4BBB-AE55-3AC842CC50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494B27-5099-48F4-BE20-F87300E6D5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CC4B31-6CCF-4B15-A63B-B924E9C1A3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D5E870-BA48-4851-9570-B892E9553A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FD95F9-213A-49F6-8292-E80C0D09A7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FBC3B1-86CF-458E-A4AC-572E78CD6A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A6BDD7C-49BA-468A-A7D2-6D43799C58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1E2C8C-AC34-4806-8DD1-44B13942D2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7061B6-EFF1-4533-9C14-D12E156AD6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A5DE3F-6EBD-4933-804D-7E0275BAF8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BFE355-D1BF-4DE1-A838-543EC27F33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411FF7-DB5F-461E-95EC-AD41AD68F7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69F108-5957-47E8-87E2-EDBB821F13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8F0D7C6-92D0-49A4-B823-392F518FA2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2F3EC9E-30E9-49DC-AF34-941BB83D59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88E777-3002-4B0A-A7DC-F52021EA3D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A6C2A3A-6CE5-4B3D-8975-151D74C184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04897C-F96F-4987-970A-8149BE43CE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63723B-E7C8-462E-A564-BC27CEFDC5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606F58C-2A7F-4763-88C2-EE44FD24A6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3E2CDA-E8BB-4D92-AAFF-59C13B3076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3A4EBB-3C64-4EA2-8979-454C6D0B68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A64B941-FB16-4957-89B6-6664B918C9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2A7EF4-CD03-4241-9C98-C5700502CC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7D9B654-823C-4122-97B8-D3D103A75F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68B3F84-8CEA-4CC2-9452-21B9A00C7B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9856BDD-B1D6-424A-97D8-C14D131005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9EFDAEA-0F74-405D-A085-BE93A5D599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913E523-31BB-4A35-A7A3-9D3CF1CDEE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C171109-D1C7-4EB4-A97F-622BA2178C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ABC128-6863-407F-9F47-DE911B3F68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EBA23A4-6256-41F5-821A-39F5FB305A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5E842B-4C9F-47DC-8A0A-DAD71B8BED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77B608-3B4B-4839-A24D-6ED499F667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63A057-3095-4FFE-BFC5-7C60F34A06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D7118F-ABFD-49CA-9809-58E714DD8E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F0ECC95-3CC4-4258-81C2-2E3995B418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50141E3-8A4F-4D7A-9B4C-8DBEE399F6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0021B52-B661-41B8-8DA4-E6CF2C5DAC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B65B71-BF9D-40A8-9743-A2AC89AEFA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4629F40-6D59-4B6C-9FEA-54984B67C6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9AD591-4C6A-490E-9A87-3C1D192491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9E6346-B88C-4E76-9B48-7882BFC2AD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FC7DBECC-ADF0-4762-BBC5-27F0731EE8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B24630-D673-48D1-9114-77BE1BD91A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0492E9-0120-4E6A-828C-A6F56D3FDA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A6B7C5-B5E8-47BD-8B40-8E2A56A721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D26FD9-F441-4C26-A8FB-7F713028EA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06C34F-3F05-4418-9B9F-93BD09769F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F70A11-06B8-413D-923F-8191284598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F08211-64A3-44F7-8D86-3046B0F491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221AE0-4DE7-48D6-A0B8-C6F959B913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729B60-720A-4549-8554-948BF1E2A7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