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B20B-9D1C-436E-8CDF-AF5675C9D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2E4D-58EC-4FAB-B267-8DE8C7D41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6E82D-6B08-439D-B6F6-85CCE274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75A5E-6D3E-4FF3-A913-C14B5ED5E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79645-DB6E-4DA5-A308-1EF8A88FB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B5BB4-E328-45AD-85F7-6421A6BA9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64EBC-2F72-4D93-806D-7454CBD83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FC36A-BC49-40E5-B58C-E33F9EC58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DD225-E471-4F1A-9F99-FE3AFCE43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7D6D5-6123-4946-BAF8-506D35598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6A33B-C8A2-4128-82ED-397AD698A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A49D9-C6BD-4B5A-B93A-F19D825F7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6675B-5FF3-4EE6-9D19-7858EE31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B81C8-A312-4086-AF3E-809B9AE75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4077C-761A-4CC5-95F3-015A72EBE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EEAAC-AADA-42BD-AD3C-DA5209F3D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1F818-DD70-4D79-9E45-4617D8106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7FD20-86DF-4124-9A7F-23AEB75AB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5FD79-4E0C-45FC-BC96-256F307B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45AE-8AA9-41BB-AAAA-2A26C0E5C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BED0-7E62-4EEF-A5FF-9A5D91AE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8A86-C4FB-484C-BE0F-7E04FFD6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A862-2D53-4C7C-BE1F-7B0D59B4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E88B-12F8-491A-8B95-0905D0F0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07D2-420C-46AB-B276-877A68FC6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6540-9DD4-466A-A986-C52146092DC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ECEB-9270-4A29-B0ED-901DC385B49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5F369027-E468-4746-A67A-262DAF016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DB9DA3-5E3E-496A-90B6-C0FAD83DCD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60A3A6-0B30-4EE5-B25E-1DBE9CBF8C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669C36-5D59-41A7-9326-2EF0C6B722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11F606-7A6C-4EE3-8B82-DC469D2E19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9978F2-CD1F-4120-BCA6-1F3110D882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470EA9-9DEE-4EC4-8FA2-716BD2A985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DA2EF4-20C0-4A7D-B212-DC666C4009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6EE9DF-0370-409C-8BE4-FA23539D33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CBF98E-CDC4-4848-BE6F-92CC67A38D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BBFC45-7260-4B43-A962-EEEA9624C8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6DD151-3073-45AB-B447-3E907F59E1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40E9E2-E203-46C6-97CD-6BD57510ED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80B959-F024-4F28-A114-D66C1D0F3F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2A3314-13C4-4535-8AD1-C52E870AB5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10D144-C58D-4B57-9DF5-9F0EDF72BB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CD3B2F-29E8-4EEB-BE2B-4C90CA2A85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3E5B2D-AB67-4791-A6A1-C361A3F79F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5D735A-084B-4FA4-9267-C087D02345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C03BB7-926C-4888-94B4-0B18A5478E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AC015C-CD82-4B0A-8C44-4716CF85B8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2872FA-16B7-47C3-B1C9-1633559479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BC4FAC-C22A-4E2E-AAA0-AB83F7AA8E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7044147-A637-4F9A-985C-25F54B3808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CF312C-CB07-4638-88A9-FC3311A9D6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001BB6-F7D2-44ED-8155-1C454C3DA3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B9FDF0-E176-43BE-A6EE-B5099BCA74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B0F1E7-1BF1-47C2-A839-92C535AD5A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6FB6F2-A864-4B96-83CE-623CF80BD5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49E5C3-6065-4830-83C1-82ED5C6BE3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AC58A7-40C9-4FB7-9AAC-C2FC7D26A2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E201416-1D0C-4421-9C52-DF374502E0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24296FD-B133-4CDF-B59B-E00961E8AA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04BECD-90BF-449B-9FF6-DB7392471A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2F669D-4CFF-4B6C-906B-1E6EE56097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67C5AC-4BF4-4991-8BE9-77118A7F46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6B0D9D-8807-4528-A8D9-88098BFDBA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1EA56F-57DD-4799-BF7E-620318795B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5296A3-19C1-44CC-A93B-CA3581B3DA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512217-3CEC-4E66-8520-054F8DBEB9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136437-8DF7-4C93-9161-6A1E9052DE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E67EA4-4219-4137-81AE-7F6D06929E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9ED9EA-EAE5-4384-ADA8-B124722D63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9F797D-DA16-46DE-8B40-DBC2322EB3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46C96D-DB58-4DDA-A4CB-5F0B8E32A0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DC4740-6BC3-4375-861E-09C62C43EB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2D956CB-FF65-4494-87D0-B7B45F32B4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58FB56A-A717-4645-95CC-E78C293D16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4A16792-54C4-4CC0-AEFA-6178B274B4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43FC82B-FF27-41BA-9182-0DEBC34C25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C821F7-B937-4380-8430-151B75B8C9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53822E-E6DB-4773-AA6A-21BB48E5BE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9D734C-6B69-45D2-9235-B4F9651FB7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EC2612-E40F-47E1-AE6D-ABE956CDC1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BD49D7-C1A9-41AE-93F9-B34DBACB19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CAC357-117A-49D2-A5CE-BD420F7668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297F20-4F9A-445B-B453-A1A8C79C3D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2256E0-38CF-4FD7-9980-F4B056FAF1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55EA20B-44BF-4EF7-A01A-C8A6A69516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E2C11A-8B10-4A1E-841F-333B033F4F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4F15FC2-DFCB-4CFA-BB16-6FDD3E691B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E1A0D1-B569-4DF3-AE3C-0CAD1B3408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0E3211-F31B-4F76-94B2-186EB4038C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F844C4-E321-43BC-BD6D-F4DF44D6BF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61BED5-E732-4E0A-B734-95F35E2C32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85A3A2-C1B3-4731-B727-2ED115B04F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F76CAF1-3E22-4AFB-8593-E82EC6E605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F60A01-070F-4F95-B86F-6035C06D2B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5B1A450-F228-4910-B431-894CE40E7A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D5C8DF-2874-4B2B-B4E8-AFD054C955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96FFF0-769D-4154-B016-96FD6A560E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4EE6FFD0-C4FF-4923-9CF8-F639126AE8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FF4663-F08B-4CCB-AABC-66E8375632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1017CA2-0226-4BDE-9705-5A1CDE15B7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3AE290-6C79-45EE-B815-EBB9DCD167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45BA8B-373F-40FB-9503-54DFC2DC8A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ED9D6C-E289-4002-B342-F64B19442D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2DDC5D-F3F6-4079-B052-9B30D34D6A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F8063B-F463-4225-814C-574DCB0124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1E13F7-97B0-4883-93D1-1B11016433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B4713D-17C0-40A5-A73A-BDA7AA5824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68325C-9837-4083-B2C3-0B3FABA98B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41B24D-5ACC-4F26-9FE2-C2F576318E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D49964-7471-4010-8A36-55427041D5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97AC7D-C827-42D8-8D9A-763A4589DD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9C4C03-2AD6-4B4F-9AA2-B82AD1A06A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0AEB5A-C860-48DE-8ED5-E95161E838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84A017-2C0A-47A3-825F-9BEECEF4EA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89087EF-2F4C-401F-9F37-E3968190C6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C659A2-9515-4B9A-9909-16D4D9DD86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D220A3-E20E-41B0-92F1-889D780B9D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EC40FE8-EEB7-4124-9FF2-6E44808755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88ED598-4E2E-48A9-A839-0CB11AA406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F0EF00-986F-4D0A-82A9-7ABAA69EFA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35C3F8-CC80-421C-BF95-6A5757A41C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62ACDF6-7182-4DF8-AAAD-115C37A347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A4AA04-2754-4308-B4BC-BD30179B4C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97E278-8CB0-43DE-982E-FE55128319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F922DC-ED53-45EC-BE6B-D59903E689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B9CF2D-D89A-408D-AB20-7617E4F4D9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72699A-79CC-4F2C-AC71-D949E8704B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A4988A-4F2E-4C8E-BBFE-E2C319B002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A2EE5F-DC95-4311-8686-C0C5E6921F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0F8342-8F41-4471-9530-7A45891684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D73DE39-AB83-4B9F-B711-9227A0F74E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17067A-2D2E-4728-B1D7-66F4223253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A0C078-CB79-4099-8A7A-55CAD88E40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6E8418-B3C2-4C7B-B026-AE5AFF65F6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7F5C11-B288-4F08-9C39-B94C54C705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B6D9DF-AF27-46C3-B433-CEDC9A70FD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70EB8D-81C1-444B-8D5C-9659C185D9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8985EB-E963-48BE-985A-5342BCF800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8BD881-CCF9-472B-B649-CE9E7385DD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FF4E65-2DFC-467D-9783-C62A671CD2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640F66-37CB-4951-AF16-7888B1AF77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1598DA-9EE8-4D6F-83BC-A1F4FE7748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070753-8C14-4DBA-9742-31276DA1F3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C63FE8-258B-45E9-A1A0-09B0906522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7C60CB-F207-42CD-9A85-8180DE4FD3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C5EE23-0F86-4F93-8E7D-D47EBE19D4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34B8AB-8327-462D-B10B-591148F3F0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E82EA2-DA7B-44EB-98A5-B3EB674253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49915F-7D43-48C9-B7A6-1CA83988E1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F62C2D-1C0C-46BE-92DC-69A7802639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BACCC0-3303-4E4E-ADE1-C5AECD2B05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BB9DD7-E385-4B0A-A4CE-A74A3EF7DB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0672D5-A3C6-4F3C-A624-8342309450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E3499D-36F0-48F1-BB6D-8A3B432043B1}"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B5A417-EE3D-49F9-BBC9-E8914A30AE82}"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FF0D24-0659-4E7C-8AF7-CA913E0A21F3}"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917D08-E33B-4867-B7C5-A6E1AE12566E}"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2AB3CF-61B9-4752-BDBF-EA6E3CC0ECD4}"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F53562-38D5-4402-9A9C-51A63C5D049C}"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ED22D0-589E-475C-A277-3372BC618E24}"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FACBD6-287E-4578-A8C7-6D92B69398D6}"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8CA7B6-70DB-4EA4-A87B-52F9D3968B91}"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8C7473-A681-4F47-A47E-1B8E674FF85D}"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924A1BA-2DF5-41A8-ABB7-6326D4820BBE}"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F71C1F-273F-43AA-B30C-A1AD29F61F1F}"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CC2F62-E8BF-422A-9586-BFA87BB03AA1}"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88B60F-7888-4264-924E-5B91713BFB7C}"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B50F24-C882-44E6-ACCE-DDFADF00C937}"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F99FDC-CFF1-47D8-B4AE-9459FDA737CB}"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5CB535-2217-4661-AABB-30E2313456BE}"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F5C84F-FB75-4E81-8F26-1B985D0948C2}"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8EB4B5-C441-4CA5-9B86-F6E78163FBDD}"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D908A33-A0FD-4C57-A928-4049703C99F4}"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BC34E7-9F9C-414F-82BB-C7163C745071}"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E7BE68-DAF2-4442-B8AB-2B3AAE6C5C8D}"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B52E7A-3591-4BCC-966F-65C535D9D462}"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5E4690-8A72-49AC-91AB-E09A48E59A39}"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839B7D-4FBD-4F09-B38A-A9112DBC5FCE}"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F93B7B3-C5B2-483E-939B-2A4DC36D3171}"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26FAD05-64C6-472B-8032-D3A9D7CCB897}"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C005D8-5012-4A29-AE4C-1798FC9945E4}"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FD32FF-54CD-427B-9A24-039126B92258}"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9A69E8-7E2D-46E1-9627-380439F434E8}"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6E10313-D1BF-4EE2-8E9F-BCC5AF1C692C}"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BE49352-FE8B-4E8E-A185-131EFE91D0D3}"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DFEC49-5BB3-43F0-8EAB-08745B5B53AD}"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4600F3-C80C-4CD1-A7EF-D9DEDB11D428}"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8EC61D-4BBD-4019-B0E8-BB9D5F71B885}"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8EB508-CBAB-4CF0-8981-3C379B18F8D5}"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4529AD-6143-40A2-9811-AF0DFFCE5F0F}"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84D17D-51EB-4D16-A4EE-DF6F4604396C}"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1A3533-B427-4B7D-B160-D8BDDE599E59}"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EA19CA3-9070-43F8-8EF9-B0453C12ECF7}"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AED8DD6-99E1-4B6E-B480-16F9D71E7984}"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1D43E3F-9C4A-45A5-B1E0-2689AA1B55A2}"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0B57E128-7328-4771-852A-464204721C00}"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B6E329-5962-4A7D-86DA-6A6F74CC36EA}"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5217B5-E5BF-4C2F-8406-02AAB0A10069}"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C0C843-1FCB-4FF8-838E-1256040DBAE3}"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F75C04-C209-4368-A04F-DDA15338ABE0}"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A7605B-7832-4EC8-81AC-03DC28B85422}"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D3675A-D119-4CB1-9444-35DF51D09107}"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2BD621-7C31-4C52-9CB9-7F4A016E4AFC}"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60F4B0-039D-4EB9-9F9E-43C4A56C42EA}"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941102-4974-4A47-8FF7-389EF566F344}"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908E02-B22F-488B-B954-4C9F4B799716}"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5F04A77-0CF1-45DC-9CB7-06CADCDBBF15}"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E51FA1-5304-4534-B881-05857FE39707}"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3C1971-7F63-4BC3-8E08-29A44DE98D4D}"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8A2C0A-9759-402C-8B1D-94A699A09F98}"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0A5428-28CF-4FF9-878D-1E60BB10DE6A}"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847978-1665-4313-B1A9-4CEE408A93A7}"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84318B-26AE-4790-AD84-F591D035547A}"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7A9DA4-478C-49F7-84A4-D4B07ED5173A}"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6EABA9-2611-4B57-978E-3F9831EEFF3B}"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E77F45-A450-4BEA-A172-2FC2C3564CFD}"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DB8E61-FE4A-4F83-AA2B-B861632D3885}"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F220F0-D04E-4BF5-95AC-A0360D70B4DA}"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58E248-629F-45B0-B251-06D67F9D1CE2}"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C391EE-094A-4500-BB0D-14888006AAF3}"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4366E9-AA50-42F9-9547-ECB2E764F641}"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43B0A3-DA4A-498E-8F2A-321475ADA16F}"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0E7328-C622-4401-AF92-2DCD14D7C663}"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069548-BE8C-4CE4-A946-FAE16EE9F56B}"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5AE8F3-54BD-4093-AF2B-EC14122CA44F}"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84B098-B4D9-4032-980D-78AF6E23F8AC}"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EE70A7-B301-4F78-B9DA-21BB068E336D}"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45941A-E3A8-4244-AD7E-FC9D03DBF972}"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2748BB-F505-4473-81E6-DB4FB6C6D52B}"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BC56EA-9699-45C3-949C-7AD32D38D78F}"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6A5089-3B80-4A6A-AF61-302451272E84}"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82CB45-24D7-4F27-81E5-603DC1CE575A}"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0CADA0-199C-4BCC-AF80-3B19C657238F}"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02FBC7-3A81-4B3B-BD2E-60E1D0BB29B7}"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7C287BDE-7BB4-4398-AA03-508428DD9B2B}"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6076F5-544F-45F9-9F32-51F160041D30}"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EE0F62B-5697-4CBA-8E52-92510EC1805C}"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C82710-CE76-435E-B551-9E02C27B5DE2}"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2FF496B-D8FA-415E-98C6-1CE26C289BE4}"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099E56-614B-47BE-9AC6-F0C94A5EFFDC}"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5184AE-D6DD-4481-84C9-45F73C1CF0D8}"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40B7E25-AD07-4A36-B83D-AA5439BC2719}"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0E94F7-788E-482D-BD70-27D66F672A63}"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3A25FA-5BD5-4FDD-920B-77EBF0C38F11}"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B409F6-29D5-4A1B-A099-D67E50AE019D}"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EAE5BC-4EDB-47AB-86C5-82A794280C69}"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30E709-1D9D-4FAF-9152-49491E32DDD8}"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E8167F-F3B9-41B6-B707-2DD0AC533266}"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2707FD-1F51-4A86-9166-806160EC76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380848-0137-4D8D-BD2D-5DE0CFF6CF99}"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A4069F-C0EC-42EE-AA99-00E6A7D5ADEC}"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64D3EE0-56EC-440C-A2B8-55CDBE724A8F}"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42D7BA7-ED0D-4CC5-91AC-CD0FAB502702}"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0C310FD-E65F-4A9D-811A-2B986B68800A}"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816F51-32C3-44A4-94B5-1902A6063663}"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791D76-4E4B-4154-A3B0-A2DD681369B4}"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201317-6329-4AD9-8268-307704CB8083}"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75396B-3286-4DFD-9225-EA034B82C383}"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DA6A398-08E5-4B2B-942F-FCFE09E3E1CA}"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FB34DC-0FCA-4D25-AF52-45D99ECC2333}"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1607F1-0522-4BFA-9209-1EF1CF870938}"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6F0F9E-1EB9-4990-9584-8CA3F9FABA33}"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2C796D-5818-4D78-8B4C-E1DBC7F6A070}"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7A56841-1C42-4A35-AD98-4648836003D8}"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866CBC-B575-47CA-9E9F-AF790A114A46}"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39EC59C0-9C8E-405E-B05D-EE62EEE6CA84}"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98F4AD-214D-464E-9867-8F218A950582}"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21C98A-CF79-48B8-9BD9-77010AF0B67F}"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478C15-F697-49FC-B25E-BE68EAEA758A}"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3755E1B-D98E-4D17-B852-A72FC586EA6F}"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27BFD2-B06A-431C-A797-C9E88E7524C7}"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A9B21E-3B41-43C1-AA23-D550CE6A4A9F}"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F2B06E8-2B6E-4571-BDDC-17C02C319FBF}"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29521A-ADD6-4206-9B7D-B518243A92DF}"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191EF9-839E-4C3B-B25D-9A3C20166F2C}"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29A371-B8E2-4AE9-BA7E-6A8137F80B20}"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3128085-9759-47E1-B5F0-2C368E3ED9D6}"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2841593-A175-4C2E-AA16-97DE0DAB3CFC}"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C6ADE3-3CD5-4D76-88D4-995FC702C45E}"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02CD44-C291-4A9C-A96B-8C09B6356A78}"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CACED2-8161-4AA6-9890-23E509BAB2C6}"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A05DC0-5EB5-474D-BFB8-AE1A8147D3DE}"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B10E0B-555C-4B16-A0BD-27555C2B69FB}"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89D325-35D2-42E4-8B52-F2DF40361FE0}"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ECCEDB-D060-4F6A-8F51-9575F7E6E27E}"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013C88-756F-4045-8547-6A026BC58D5E}"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12802A4-523F-4AB2-9C38-F71D3FDA642D}"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54B760-B9B3-4798-8752-4D4FD2ED8288}"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9A20A6-404E-49E8-842F-D4A0C5D0E581}"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5F3DE8-D00C-4A40-B51E-5576E89F3564}"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73F9E1-5C7D-41E7-AD43-CB16B7CF3A17}"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06A890-5E1E-4B5D-8EA5-6A97E6E27B6B}"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3FE481-4923-4A4A-A353-D64CBAE1483A}"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776020-7679-40B7-B088-8CC40F247F6B}"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07FC19-FC44-4F9A-8742-9F9406E14DAB}"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4305A51-22A6-4143-801D-51B77824765E}"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46A7DC-2810-4774-ABB4-62246E91B36D}"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B08C7DC-E6D1-4871-A031-E148E8478503}"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527A2B-1846-4694-BDEE-623E305FEB3C}"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D30C3EB-2365-4E1F-9D73-C3C9B70BC658}"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4D96DF6-1692-43C3-897B-A35AF999E9FB}"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F61369-1ACF-4CAB-AD61-19D23A4FE070}"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AF4ED1-FBB0-4D7F-9FD1-A39262E96E7C}"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73A486-C786-45D6-9A48-3FC251B2E2B8}"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174FFE-D132-4A1C-9CCC-62B598519310}"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0714C98-FF64-422D-9483-1C8A7B8A9297}"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F129A76-2135-4FB4-8DFE-86339A873773}"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570E21-3E5E-467B-ADA1-EEEC8E18D58B}"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05D304-E75D-4F60-9121-77920E90A689}"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23EA9D-B863-4090-B2EB-BDF1BAA27E05}"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ACFDA76-8F46-4CBD-AA37-4F9A11A54CCC}"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755B8AD-209E-4BC0-B168-F75A1E96DBEB}"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8E75EA-FB6F-466D-BD8E-C26556988AA9}"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41DFCC-21E5-457A-9FA5-D933767D38E6}"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BCFDDA-2E7F-40BA-A944-5273383C130C}"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4F5049-856B-4029-8C2E-C37608E4CEF9}"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EADDA8-2FAC-4E7A-9007-DF1B42FFFC9A}"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BAAB5E86-EBD0-49EB-B2A8-A201AC88AD37}"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BD862D-4F43-4E2B-B195-517100DF40F8}"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72C493-04B7-4161-A6A1-E7CC53795530}"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5EA47E-3372-4F2F-9651-BE4DD2BCAD3B}"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C08748F-E664-42C2-ACDA-DD07B00B66D3}"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EDE0A44-0470-4778-A4E6-A41525D3FEF8}"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42FA30C-878E-4636-B15A-0BCDED040B58}"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8771FA-A6C5-4C06-9353-38180DD8C576}"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9D396F-90CC-4E3E-BD96-52B31A5BDD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AFFD41-1B34-42F8-A928-3B00E1AA8D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6A52CE-5601-4688-AD40-877E972BAC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6C70F3-9502-4D59-93FB-F262720DA7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6FA2FF-0AED-4362-BC0E-25B01CB500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46AD2A-21CB-40D7-807D-CD47362524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CFD7AF-0FB0-46C4-B873-E155BD9A21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825F10-04B9-4D7D-8219-136F223AA6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5A1620-8D80-429D-B677-BD15A0AD17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725AEA-D2C3-4C92-9304-29EC4EFC6F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E65C51E-8D95-4071-8080-7CC4950414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9996D4-DECF-4036-A337-7C787C9DCE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7E999E-0A25-429E-AB08-8A24EDDCE8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350250-6BE7-48C4-8D70-AB853C9792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EA2854-3B80-4D64-9FD2-1FBB39B55B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08AB35-9AD6-48EF-B0DD-EDAA5EF6D4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2E262B6-38A4-4635-9304-5A240BB886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7A3827-7C1F-4FF8-A1CF-DED16F34F0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3C3F1B-2DD1-4DD2-8B8B-7B3264CE0F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1EFDA7-E242-490F-B204-42055EF80B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208383-2FAA-4E08-9CE1-EF6470344D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D3C7D9-89BC-4013-B729-1ABE001FEC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A7E1AB-11D0-4642-AF44-169D7ACDBE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67F1E6-B53D-485C-99FC-551C47D31B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3A5E53-643A-4AE4-B63F-54C602C7CE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DA83A7-8517-483C-A474-0DEF30BF54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DD792E-F4ED-4ADD-8B62-E740C94F50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B02749-F049-4E9B-BE4B-190C1D9B7D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9C5014-2B55-4DB9-B5D4-673E6AABC7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C3104A-3B61-4302-A6ED-18D9862FE1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88AF67-6910-48D6-AEAC-88BD484809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72BDBF-E876-4B87-A292-E7B80852DE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B3741D9-52AC-4189-A769-F110BFE69B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BB565D-8297-441E-8577-6AA1792E82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F84E61-501D-4A5D-A082-914F18CB75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1D4B58E-759F-4380-8977-9AE4CACF22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68B924-142C-4C29-8B0D-2A78F9DFF5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D0B328-70F5-46F1-88D1-D0DAF1626F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8B1E42-0656-4A88-963F-643CDC178B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1CE8CD-CFA6-4E47-9541-43B7058E6D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927B1E2-2FA8-4CE3-B24B-F309DD80AF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284205-2EC7-42A5-9F94-21D4399AD4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61F727F-2C3D-4D72-8F6D-9E304E3843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885FCCE-929D-4D9C-BB22-46CE64A49F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85DC02-47A9-48F3-A530-18DAB550BF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788D1F-E873-4CEA-BC14-D1250BA5DF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98A9B7-90EB-467B-AF11-B1763E7814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61B0B37-726D-4DA3-A9F1-4437ACDFAC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5269F1-1DD3-4A00-B539-BCE1A90DDC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930898-2420-4A17-B776-3EE3AAA32D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606550-ADCA-4813-8E46-0CE4874B31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B5A944-864A-4AFA-9B28-1279506FEC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DB9ED8A-9E17-47E7-856B-70D60A8F99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DB8B586-D01B-408E-BEF1-D390AFC0FB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20242A3-200F-4CFC-A048-EDE39D49F5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E2B5DA-4A74-4508-8991-CF5751FB5A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EA735FB-0858-402F-9FBB-BB43966973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53B574-8DEA-417C-B4C3-E1D5B78579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469EF8-5C6E-431A-8568-249F15A347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49C17BB2-6932-4D64-AB2D-9E9C53C79D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AD1C86-1EE3-45E3-B72E-D19C53D1FE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5D4739-4CC7-43A5-AB61-57BF2DA332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6C0D1D-762C-4784-9D31-2105C93CA5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FA9129-87F8-48A2-A43E-F217F93569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8D3BC1-27A0-4A1B-9E23-7D67029565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3BA5B7-3225-41ED-A8F2-A3DA952652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CC2EF5-2E29-4053-AE14-4E6A14413E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D3CCE9-3B26-4149-A488-2FE293144E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7772BF-F567-4179-AA3E-8818871CCB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