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1C24-B822-4329-B70E-6C160E156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F35CE-DA72-46B0-BC2E-85AD7366E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4F6D-6184-41A4-9CAD-65BDA739C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226D1-2A0E-4F02-AD6D-8D6729270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836E2-D3CE-4C19-AA01-D818FE98B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08FB8-F263-46A2-9E8C-111AF3848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683C7-39F3-4566-B39A-5FF0BF039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EC7E6-ADD1-4958-9525-88BE9F645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F5EDF-6973-42C9-A45B-61B1F84DE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C4B54-987C-4449-B2DB-E8218CE30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60E74-96AB-4C01-A3A2-DD2A375CE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0D8D7-071A-413C-A9A4-5BCA3B9F7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9020A-2F8A-4626-B384-D6751729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049EB-1A69-4F67-A1AE-5B7795DD3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6993E-41AF-49F3-A8A7-A8AA80FC1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81003-ADD1-4A7C-985F-0BB99967E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C6474-74AC-4164-AC1A-E23A100FD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E5765-6030-4E53-8097-DA177ABDB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FDC5D-776A-4F09-8589-91E9ABCC9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0926A-AFE9-42D8-9DF5-E4C75E32C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08F3-D0A8-4F79-85E6-005300CEF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4AF0D-46CC-43D3-A17E-C2455FDED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DD8CF-297A-4368-B117-CCDF90B4B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D974-CFBA-4A73-A89F-E94F9B81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179E-0F6F-4042-A8D3-2C38DD070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F5C4-9690-4BCF-BCFF-E22E475C881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F88A-26B9-4EFB-A658-17C68BA85284}"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51386AEE-6233-423B-AEEA-446D04354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D4882C-E43C-407A-B070-1701826D7E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C815C1-E6F2-4219-8438-95A0E0F588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E3E771-D382-4B5F-B7D9-139031C688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01754A-0675-4E06-9A0A-509624EDF6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00CD7F-ABC8-4960-9433-4099BAE948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3B2FD0-53AF-4EE0-98E8-25EEBB0595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B3DF72-8F0A-47FD-BC26-9619E953EA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C36E75-AC10-4B7F-B3EB-9F03BCAFBB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999C2C-E361-4AC8-84E6-FB21462995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835B7D-8661-46F9-843A-E491C376ED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AA9BE0-3A01-4124-B9AB-A6E2632103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472407-BC35-489D-A925-FBC5C2CF6D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F65C24-05A0-44F0-B412-C31BF7D04A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3EE366-F6AA-419A-A4EC-CB8EDB59B0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45D2D1-4576-4910-8EAA-EA1D64B47B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6844B5-FB6F-47B6-B7AF-BF84CFBE27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7AE304-B039-4459-9D65-76EA328ED3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181284-7BAA-4CFD-94DB-77C5CBC5F9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4D99C3-B7E7-434C-ADDB-30BA8D075D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CE6437-E0FD-44B4-BFA6-7A5CF662F1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A5672A-A936-49F9-8873-FCCA8284A6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42706C-931D-439E-84C8-D8759204E2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DAD18D0-255C-4719-944B-406A31E71E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DB1B702-865D-4CBB-A8CE-7F8A1BC9AE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074936-F258-4310-8AB1-11E7EADB0B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2E960F-C0BC-4545-B1FB-F41E7887E0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152FDA-6137-4613-A8FB-176E21101B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F4B652-9295-4929-AB3D-C443EAB83E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E4A936-5A76-4699-9BF8-AD2FD78B7C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E64E6B-044E-4C4F-A190-73F956801D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4D11B48-9740-4129-8B2B-3973C8F139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47480EC-EA12-4762-B666-EDD419FD12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D18A6E-58D0-4323-AC4A-E44476C657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746C21-A24E-48A1-8275-57847B4A27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1C4D21-CE29-413C-B4B1-D7C171E856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9E1B27-DA67-4359-80FC-DEA099E3E7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31E3D8-068C-48DC-8ABF-68EC21B335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D9DEB5-8553-4182-86FA-CC8DB430E2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0A271F-C9F6-493A-BD15-CD0947C00F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51A924-5D10-422D-A3B0-4250F9DDAD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CAF26B-3314-4D00-8E11-83D86CEDEC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3ED347-F977-4887-9231-265431D42D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4633DB-7207-4CF9-97A4-01DA55178B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AA7F1E-EE0F-4F16-956B-71E17A1904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EAF0C8-E25E-4A08-B36D-E721AB80C2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DA54B81-D9CA-4C32-9029-95AFD68B7B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6C232DC-9DBC-43C9-887D-0D69B49C6A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2F66C5A-6BA1-4303-A63F-2A8278A7B4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EC3104A-13DB-46E8-9422-9535238EF6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83CB40-E2C8-44A5-9D83-3AD4113838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6C1A87-9BA6-44B9-B4EE-C587A2DF78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57A994-CEAE-4DCF-85A3-7FB0CC2449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CFF52A-3252-44B2-BF68-D44513D5CE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01BD7E-166D-4BB8-B5D4-FCB0E7A295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C32E60-4CCB-4625-81C1-EBA52492D9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902A19-9310-4971-9538-569F9F1D07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6A5E1F-B974-477D-8C65-BD11CF5C31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C524961-717B-42CF-9D96-C8CDB47CBB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1C3ABD-D8A9-4516-97CB-80F9A052FA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ACC9618-FE91-43E4-BC96-FCFAE0678B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F0BF0F-B024-4D6F-AD34-C53431791F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E984AC-D181-47EB-B819-6420731470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669E3A-E211-4243-95D7-765720A2BE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FC52EC-A77C-4BF2-891B-50B8E54939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CF7F9E-8413-4823-9158-D53A4FA322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CEF4E4D-D727-43AF-9E69-265B5A9899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559924-03FD-441F-BA6C-E2E43FB9B1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C7E5DDA-597F-4639-8674-2E2A7ED01F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F3D2E2-EBD0-4571-AC0B-D3A43E88AE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078AC8-3432-4AF8-AD04-19F4B2BCF2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4C72E52-3751-43D6-97FE-54163AB87B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45B134-09C7-4DD7-A2B2-CE731DDAEA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3D0B10D-729F-4C4E-902B-9884AB9E10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B5E5AA-D15A-46C7-BB0A-2F53D2317F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F6C639-C070-4988-A18C-6730285F9C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6F7297-9D90-4516-B814-3A9D0B387B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7EFAF0-51B2-4C7D-8686-A8D8BD2722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609A8D-1F1C-4458-B9A9-E0A32F4F13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ED3525-EB38-47EE-8A2B-11C44019BD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B6256B-A466-4FF4-8FA6-C6E94719B4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05C680-95CA-405D-B85B-492DE81D07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3C4568-C2F7-42BA-BF81-D2F5B0566D2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F9610C-9E72-4A77-B810-BEB4F259D1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BFAB29-0AED-4ABC-A31E-0C499929B0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46C19F-D9B7-4B62-9611-CE26D71011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34065C-294B-449D-B5C7-F14D019664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837B0B-CDBD-41D2-9104-FBB7171D88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7CB4EE3-AEA1-4B98-8090-B72B4FFC0D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12929F-456A-41D8-90EE-156C3846C2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E744D9-328B-402E-A7B1-0394E61E03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35B7717-F2F8-4E8C-9B33-40F92EE875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F6B43BB-315D-4CCC-AAF4-EA4A53AA46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385BD6-B4BA-4EAE-BD97-210F67D6FE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7C8C01-F218-48BF-B89E-853750BE42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8DE5D63-7745-43BE-997D-073A0F4A378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22F1AD-8391-441F-8FCB-7DF2956BC1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4E642E-EF72-4D35-A869-E0B0154ADA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5092D2-7DBD-4AA5-82D0-B36B5C54D2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31A1BD-6776-4393-9C86-DFD226A7D4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A91236-88F9-40CE-AD1A-93C4E08E57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63C2CE-83C9-4BEF-A9E4-A344465FE7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55B24F-C7FE-4E2F-8BC4-FA3E03ACB2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289352-5556-4719-9CF5-CB0E003916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FF48D21-81AD-46B2-8764-A73A74F0DE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EBC6B6-15D0-4009-851C-4B2BE96406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80250F-8DA0-4244-BD54-C4A416FE8B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F69407-1BA6-4E0F-A24E-10BE3E4B68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6B9DD9-26E7-4DD3-94C1-06D778D1B5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0A4A87-5F58-428E-8A72-FA9256F7BB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485E5F-1E04-466E-9318-6B7C667633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84CCF3-EFBA-4238-8324-05CCB82F83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0F8CED-A55F-4F5A-B0D3-C2F3AC28DC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830295-5887-417E-BB9C-7CFFF77C72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83FEF4-0F37-4DB3-B8FA-5DE02EC84B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B5A944-2055-45C9-A747-3E4C4093D4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B71952-696E-48F7-BFC0-5A5BF520D4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1BCE7C-A3C7-4B20-B67F-642AC58F05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FE621B-79CA-40D0-919D-6AD87392F0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81E1AD-DE5B-45DC-A758-9062FCF13B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3AF94E-CE82-4731-9AD2-17D55106B3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217181-5538-480E-AFDA-BCD6C11686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2E778E-1B9C-4274-8E8B-A96FB33801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000C33-0D39-4272-AF96-1BDE6E0DCE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0CA86D-14A6-4206-845B-27C1B8253F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30A7BF-C6C5-452F-90E4-83A0095F0B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D74793-FD67-4F42-AD6D-1BDC599A4D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705085-133F-4BFC-9AAA-F038DB48C2CD}"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B6B594-AD93-4B72-9AA2-2228E19499EF}"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51EA1E-C2A4-48D2-92E2-AF1210296144}"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8D4503-A4C0-446F-B51E-7DB7B6B75A20}"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088AFB-6120-44FC-A28D-2B91D8B95220}"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22BE11E-8269-4DB0-85B2-7BE782386C31}"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5168BD-3236-468C-BE93-61B39352AC86}"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6F7E7C-35B1-4F53-8028-7BF3BB9487C2}"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0434BB-0C6F-44AD-BBED-104DA3F2924C}"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385E59-0AEB-42D8-A4D1-2A7D007A12E7}"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645BE3D6-ACA3-4439-9DB5-0518EF88D478}"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1B20B5-C024-4140-8417-50022522AC56}"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3EC6CF-305B-42D0-A10C-1555A5855DCE}"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01AA8E-9F06-43E8-8B89-3E85A6845B8B}"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6955C8-082C-4E62-91CC-593AF8842D92}"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B6B683-FFB1-446D-A06D-B0C812D8939A}"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8AF13D-03D0-4C50-95EC-9CC1735990F5}"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3A4F95-BE5A-4DB0-BAF2-F05595027AC3}"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6DA941-432E-4C62-972D-FF6CDDB0AF8B}"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0CAC15B-0279-4D9A-BFBA-7DD150E83577}"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D9F8CE-DD09-48E3-8179-95079B70CA7A}"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41865A-4004-4FD8-A7C0-EB1F4E52AFF7}"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3D3AD4-1BD7-4600-984D-96E68AE64199}"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C08858-6178-49A1-9D31-98588C845724}"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91A2E1-DC62-4DA8-AADF-1C538419CC55}"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1B7FB53-7690-413A-A3C2-462AC66B3BCB}"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11BBCED-B474-4573-8CA1-8CCC43255216}"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0412B0-B426-4F31-86C9-78C24BBB4D6D}"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336CF5-0E20-4857-B7BA-934DBE15F029}"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FEF745-D4D1-4519-804B-5C4C7B4CF643}"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0FB4DE4-3D99-4AA8-B7F8-03AB93C7A3C2}"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6685896-4E31-4F63-93A5-82019F705E33}"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CD7A5F-B6BA-4036-8B69-2F5157CDC18A}"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417E6A-2DE9-4170-9817-141FB7A157C5}"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5D7DF5-5B05-4592-A19F-C522C916CC73}"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55292A-450D-4A1F-8371-98D7D8C7A146}"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811389-5DC8-4CB1-B7C9-B3BD37B57D5D}"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6B3BE6-E522-4806-BFFA-642A600FD272}"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38149A-B1EF-4343-8B4B-E8F8A749C8BA}"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999FA0A-4715-4775-9A0F-9459222F750B}"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25867B0-CA0C-4D27-8C66-5D7D84A08DDB}"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DE1C18C-6D18-45B8-8ED6-E61594C1FCD8}"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F26ADC98-4DB2-4021-ABDD-4531D63357DA}"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BE43FA-0447-49DD-9E13-8CA4E91AFBA5}"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B44E58-3618-4228-83F0-042F4ED29A01}"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4D8A2B-30C2-404C-8722-5F06E7C29FEE}"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F2E343-5596-4B5E-9B51-FF7B69AFD8F5}"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9E1C43-F92B-4FAD-BB38-3BDE33FD89C4}"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7C1D58-7BCC-4BA5-A69B-8A8E1244F0B7}"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730345-96A0-479F-BD2E-5156CF430A61}"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BF4DD41-D74C-4EA0-8E15-033885986481}"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DAE665-0814-40D1-AFD5-F3053D93AB24}"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820405-78E6-40B2-9EC9-B8D8AFED12C7}"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1B8BF86-0665-42DE-AEC8-530BF1516DAB}"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EC5B29-16F5-488A-BB30-949FC9290E3A}"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92BC0AC-B561-4B67-9501-1A25371429F1}"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AC3781-B375-414E-BDE8-3578312BD30A}"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AF1720-0BF8-47B0-B56D-D4A1CBFD2B29}"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956DAE-1109-442C-A54F-4EF786BADF59}"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2C531E-DE9E-490D-9E77-B68813420FE9}"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60F67CD-C40E-4924-8C65-C11529B8A58A}"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FA6C52-0073-497A-B825-3597C7E70C69}"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05F844-1899-4674-991C-D25910A7C431}"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350267-A574-4944-9D9B-F63BE04D11D7}"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8FF964-1500-4191-9218-903B7F5BD793}"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3D9A36-E1B1-4A61-9004-AA7088DE2252}"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0EA588-BF99-4BAB-8C03-C1DB4066CE06}"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54CF44-2F78-4E58-8620-1A4F5F2C5ECD}"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0FD79A-39B3-428C-96FB-E507963F592C}"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EA803B-26F6-4E27-A2D6-2678D296F31A}"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AD4120-06E1-46BE-A8D1-03E17C0A3D80}"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6954B6-11A0-41C3-B244-604F8F3C3612}"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28B4CB-C64A-4118-B8D1-B39BB95617FC}"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BDDE33-ECE0-4AB1-BFD3-C892F1954C2C}"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A0F52B-EE21-42F6-81F5-0D215144CA7E}"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53361C-DB07-4228-9444-9E374246D25D}"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C4B225-327E-494A-A630-F675137DB80C}"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4272D4-60A0-49B5-8B69-8050F8B16114}"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D0D03D-2AFE-4A1F-9A53-4154A0974266}"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1000D3-2688-48DB-A60B-F28AB61F335F}"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A807A7-45F9-4A1B-A959-904776E4FC6A}"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EDCD43E0-F13F-4E58-9E01-637440D7FCFF}"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7CFD54-AE53-4EAC-8FC9-93443ACD1DEA}"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060643F-5C80-48E3-A3F6-DC97FC358834}"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EBC4DA-FF3F-47ED-BBEF-BE84583F323A}"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82ADF88-F44F-40DF-9AD0-21FEEA7D838F}"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1FEA4E9-0C77-4C06-9566-BCE3A9DB347C}"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6435ED-5282-42EB-B78C-31E80D16C4BB}"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5807309-72A9-4804-97A8-B2A973E27388}"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D85A23-C9B3-4DFC-9817-35866C805AF6}"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FD8C85-EE8D-411F-9360-75CDE2D3B824}"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05FAED-4DEE-4B20-8B67-B3D2D71417BC}"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16FD44-F960-4AB7-825A-5434B4C9FB22}"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F14EA5-1EDB-48F9-B471-45AEC25C9512}"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DFC7CA-4E1B-4DEF-B7C0-FE2A877D1B67}"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FE19C0-7AF6-48E2-9516-E7425AFA99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ECCBF8-170A-49D3-80E7-9B24B680B13D}"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F415E3-3EAA-48B6-9E3B-C15C48288EB0}"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8B193D5-1732-4F0A-846B-88E904087BD8}"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C418A18-111B-4496-8050-3FF19F2E9D3E}"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57A10EA-E32F-4302-AD87-DB70ADDCAC7F}"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B9869D-7D6E-4207-801F-714964F1DA76}"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9D2CE1-3598-4C8E-BE42-FFD09DC9CF44}"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F23331-9EC3-4268-B9A2-55B5AE4EF6DE}"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84E3A3-C11D-49C5-B628-42D0684DCDFB}"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74B444D-118D-4A2C-A8D5-D6B1B306543E}"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4412FC-3782-4B6E-BFAE-F9FD1CDA7814}"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032C13-60FB-4B81-9B3B-109CA42C04E6}"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24CF88-74F9-4F70-BB5B-271BAEAABC41}"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78A2EB-A195-4963-AB22-A10762D58EC4}"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A24E809-044E-4D3D-A3D8-247D3B6E5B7D}"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9623FB-0E69-4DAF-8CDF-EEA09FBAA821}"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4EAE3838-3A8F-44DC-86EA-C756D01CBD35}"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35F1E6-DA46-4B5A-AE80-EBB27D86E232}"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C243A5-35C7-44CC-92D6-563F3FB611D9}"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97BD65-750F-4FED-B988-3FED7A125339}"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8535EB4-5790-4C79-B979-97E3F3E7940D}"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519F37-34B9-4A37-9A2E-B2DF746BB0C8}"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2AF2CF-FEC6-4730-9D10-026A18179002}"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B645E29-EADE-434F-B5AE-2121698B286A}"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967331-1940-4864-882C-A11D5658957A}"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EF476D-45CC-43B6-8F1F-316EB1056B24}"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0F4954F-C9E9-4C49-8C0A-614220E4607E}"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F6639D0-1948-4E35-8C12-F35262753BFC}"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28768E4-E467-45DF-8D67-D8CD16D6A6B9}"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918664E-C8C2-49DF-810F-AF27A93FFDE0}"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5B2A6A-0D9D-453B-AD40-17042DEDC6B4}"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9B3D99-CB93-4172-9F0B-9F2775FB42DB}"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DB03FE7-7268-4DD7-A70E-F2425661BCCD}"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548E13-7558-4566-8489-D20A1007D2EB}"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00A06F-65E5-4857-AA11-4E05E8875628}"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D35AF3C-FC53-40C2-AD40-A7163E9B3F62}"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F7758C-9F72-40F3-B850-CE027FAF2F17}"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A2876CB-B695-4274-9320-A276F1AA640E}"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15A37B-783F-4500-AAF8-DC13D25E2B5A}"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613A9F-F4D7-43FE-ACB8-D3D1A7ADEC90}"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7F22DA-89D2-488D-ABB9-39AB649E2BEB}"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F224AD-1447-4C80-BC1C-3E7820941F9E}"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21F601-0AA7-4B6A-B918-49A104BD4360}"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A99B4B4-35C6-42D9-82AF-4913D6FDB779}"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43E856-DBF4-45EF-AD06-48F7FAFBCB27}"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14F09C-B100-4EC0-90C9-51575525558B}"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9C49C99-D994-41F6-8A57-737500AA5DEC}"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0583D6-1D52-470B-8A62-650A7E4B128E}"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E694CC8-D9C1-45F6-894D-E5C1550D3848}"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4DD8F7-E1DF-4314-8CF5-2303665F5299}"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2C5A5ED-530D-4B80-8507-EC637B882014}"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13491DE-BC9A-4289-8084-35DEBFF7FBCA}"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8E5ADA-50C5-4349-BCC3-482DD977A097}"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F5B745-80C3-41D6-ADFF-97F87DAFCF4F}"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F75306-9163-49ED-8F50-B47914824088}"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B55C27-90F9-4452-947D-A6DA533D835C}"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E6082B9-6872-454F-9914-700021C11BEE}"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D8E91DE-EF42-40A5-8C79-2D1AD4B83F1E}"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9D961B-EBF7-4D9A-B65C-067910C55768}"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B24600-6939-419C-94E0-4D392FFBFACE}"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FC4BF3-7FB7-42B1-BB1C-FF5CF687E953}"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0616E4A-80E0-42C4-8B7E-14FE6B858477}"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53A5E6C-B9E4-45B9-BC17-B5E9CAE4226D}"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F57379-DDC1-4A9D-AE33-C215097513B7}"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7FAAF4-A5DD-4B01-85E7-BD005109B63B}"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64612C-E2E9-4187-9E38-816403268B02}"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0A7A4A-BAD0-45E2-AFDD-BDFAF99B47A9}"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7BB946-C6F5-456D-8FFB-2FBA63B26173}"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186F6C2A-0C82-403F-9053-6C3BAADC64C4}"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4813AC-6D8B-4876-9B2A-F264AFF45D88}"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A4B085-3DFC-4896-B338-498E2D8A26BF}"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774A92-4D14-440E-B5B3-1BF5AD93C3F1}"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82B4419-0CC0-4A9C-8FB2-9C2F7121F78C}"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D95954-274A-44DF-A2FE-93FBC27FDBA1}"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412F043-40F9-470B-BA61-ABD143D76C68}"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506EC1-2161-4D83-AAD6-6359201BA2FB}"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CD9EA8-64C2-446C-87BE-FDC3C1D8B4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566261-A1D0-4343-A1E9-07516E18AF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18F257-8E97-4E02-B3C1-2E56FD2248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0E22BB-588D-4CB9-BDA6-CE2A0E2523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4AA721-3868-4448-AE3E-903543A7AE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78AD6E-669C-4517-980A-3368453FCA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C3F8CC-0910-423A-92B5-F7878D75AF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4379E2-4A2B-48C9-BB8E-A3FDC7292B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A472A9-16AB-45FF-99A0-D7E8516C4C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71D4E1-15B0-41F6-B4D7-1F2E3CAFA5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3B7AB180-A1D5-4AE2-B416-CF3B376433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17F5A4-EEC8-49FF-BF78-6488A79789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167846-1C4C-422B-981D-A3BBF66A54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C655BA-81EE-430A-8A5A-3ABFFEF125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7E1C75-9627-4D12-825E-9A35F26DE5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DCCE14-FE2C-44F5-9937-2C76A78178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0FC1DBA-456C-4227-A2C9-18F12C7D46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B1C7A1-44FE-4238-BBCA-F226CFFBF2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FF97B1-69E3-40A0-AD59-43DDC2E94C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3ED42C-6900-4824-BE74-C3C7EE9F5D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158E68-DF30-4A26-A631-9EA29C7483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2156A3-97A8-4C32-BDBB-0C64B9BA74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9AE9DE9-8B55-4443-9699-EDBF000F0D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93E095-94D8-4B2E-A5B7-4BB8940AE0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744AA9-8101-4BC3-8AA6-54F9154138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16CA1D-7E12-49BC-B939-89DB0E395F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B001BA-AAA9-4261-B591-2C9F66B36D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33D929-9897-4DB3-91B3-62084C7AE6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86739C-1909-4A33-82B1-FE4CA95970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398D0F-105A-4DC8-88E7-3D4D20A4D3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B032976-C525-4A1B-87D6-896AF83CEB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ED27CD-7127-4DB2-B78D-CF0379645B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A82863-83D1-4A27-8E73-492B34695A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177F9B-FF19-4772-B57C-CFE1B98205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F47C96-801A-41D1-BC30-A15BFCD35A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D20E869-762D-4734-A051-6CDA593113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28049F-7086-4B14-9C47-4EFED1801B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78610F-8AF0-4ADC-A489-8B1B89BB38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DC6BBDF-5000-4583-9AFE-8275E1B8BA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4EF582-7BB2-413B-BD25-7ACC815301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5B13E2A-E34E-46F9-BF68-47446268EA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EF8EDD8-F5F6-4FB9-B713-E9BF561967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4829A04-CF6D-46B1-81E9-89FB3C7380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C83D100-D9B9-4263-A989-71385F5FBD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6B46DFB-DF92-4EB1-8391-5C5B8AE7C3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3CB5DA0-E217-4D66-8AB0-6A8E05FDEB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9DF488-5519-4DDA-BC03-0F12C2CCA3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9C14BF2-F8F4-476E-925F-9630B2EFF3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96589C-F465-4668-882A-AA7A5AC141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E37F9F-6630-40C1-BD73-ABA1E639BF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145EB5-2DB6-40DE-8B8A-1EDE3CB6A3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F6DCA0-D9CE-4377-AC8E-721DFF7AE7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88B4362-0D88-482B-81EE-FE2221DDD4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3FB0672-4252-49FB-9E9F-D406EE84EA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CB45B74-25E8-4B32-A7EA-3A9A41274E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033C48-E7F2-40A8-92CB-768C096A9D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735CCC5-7A10-4807-B168-C4547DFC3A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808074-F37E-4A82-87A4-86F572C0A0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5BD992-42F7-4E03-8DAE-92DB64403E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F88425B0-C2E8-4A96-B995-1EFB224D46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4EF689-605D-4703-A438-6741F5CBA1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8BE217-9CCC-4122-8C0E-F63CCCDA0E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96E485-5181-40C1-A6AE-C365353FC6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C1329A-41BF-48E2-BA0B-DA989C4D55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B7C011-A7D4-4DF4-AC42-282F164060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DE0131-067D-4115-AC75-187FF6E67E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F06DBF-7AB8-4009-9EF7-F9A38AE061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08F3F3-E419-4985-B21E-0E6E726C48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2372A8-29D8-4F5D-95F6-C49BBAF4C0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