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E8A31-87E4-46EB-8E21-A350588EEC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25E1B-7D4A-4D28-B408-066A19C5C7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07382-8A52-4818-8681-C4548DBBAD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824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5068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824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5068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C52EA-6306-4F55-BCB9-D7E8FD85E4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440" y="759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53783-1768-49C8-AED4-D3578B7F51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6824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5068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6824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5068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8B1DE-2D61-40BA-9286-3742530E3F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31446-73FF-48E1-9B0C-EC73A4B13F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9736D-09C6-468A-BD22-A78D07E81E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440" y="759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4BF43-79DE-4C50-878F-A3DFA854B6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67226-C5E9-4BAD-AA0A-6DB30873C8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67E49-3E49-4E7F-A99E-9CAE15F01A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2713E-DB5B-47AD-B50B-91071AB902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205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65680">
              <a:spcBef>
                <a:spcPts val="1749"/>
              </a:spcBef>
              <a:spcAft>
                <a:spcPts val="1749"/>
              </a:spcAft>
              <a:buClr>
                <a:srgbClr val="33339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588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000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6400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6400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6400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1880" y="655272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1205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FF64-B92A-4475-9096-9CE495B73D56}" type="slidenum">
              <a:rPr b="0" lang="en-US" sz="1200" spc="-1" strike="noStrike">
                <a:solidFill>
                  <a:srgbClr val="11205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38080" y="6552720"/>
            <a:ext cx="18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Nyilvánosan használhat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552720"/>
            <a:ext cx="822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112051"/>
                </a:solidFill>
                <a:latin typeface="Arial"/>
              </a:rPr>
              <a:t>Eclipse alap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305920" y="76320"/>
            <a:ext cx="53316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205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552000"/>
            <a:ext cx="91440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112051"/>
                </a:solidFill>
                <a:latin typeface="Arial"/>
              </a:rPr>
              <a:t>© 2006 IND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00080" algn="ctr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20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2" marL="914400" indent="712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0036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003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003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112051"/>
                </a:solidFill>
                <a:latin typeface="Arial"/>
              </a:rPr>
              <a:t>Eclipse alapok</a:t>
            </a:r>
            <a:endParaRPr b="1" lang="en-US" sz="36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: Eclipse okta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tátusz: Kidolgozás ala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erzió: 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ódosítva: 2006-10-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szítette: Sallai Krisztián Zso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Bizalmasság: Nyilvánosan használ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733920" y="762120"/>
            <a:ext cx="160020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Fontosabb Eclipse eszközök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IRT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Intelligence and Reporting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Riport készítés támogatás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ubclip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SVN (Subversion) támogatás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Nem Eclipse projekt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5B469-5F4A-47CD-8F75-E71A72CB57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Eclipse FrameWork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aga az Eclipse FrameWork nem egy konkrét, monolit program, hanem egy kis kernel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plugin loade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néven. Szinte semmilyen látható szolgáltatása sincs a pluginek betöltésén és kezelésén kívü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zolgáltatásokat gyakorlatilag a pluginek adják, amik egymásra épülnek, használják egymás szolgáltatásait, illetve a felhasználó felé is nyújthatnak további szolgáltatások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B4FD5-FA76-43B0-9531-34AA663A54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Eclipse FrameWork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6476760" cy="541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A8703-15B7-44F5-8199-7C75BC9313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Eclipse FrameWork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924680" cy="537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25CB9-3C5B-483A-94A8-5AFEB82259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Workspace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Workspace gyakorlatilag egy könyvtár, ahol a felhasználó munkája tárolód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ontos megjegyezni, hogy nemcsak a szokásos munka fájlokat (forráskód, xml, kép, stb.) tartalmazza, hanem az összes beállítást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Workspace váltásnak, mint lehetőségnek, nagyon nagy szerepe lehet.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Problémákat, érdekes jelenségeket okozhat.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23C50-62CB-4A35-B34E-14E8789346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Workbench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Workbench gyakorlatilag a felület, amin keresztül a felhasználó munkáját végzi. A szokásos elemeken kívül perspektívákat, editorokat és nézeteket tartalmazha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nézetek az editorokat támogatják, továbbá alternatív prezentációt vagy navigációt biztosítanak a Workbench számá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perspektívák a különböző nézetek és egy editor területet tartalmaznak. Míg a nézetek halmaza eltérhet a különböző perspektívákban, addig az editor terület megosztott közöttü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35808-8BFD-48C4-A993-060C249C82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Workbench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0" y="676440"/>
            <a:ext cx="4572000" cy="550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D9159-3290-459A-B47A-ED797C96A8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SWT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tandard Widget Tool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 nyílt forráskódú felhasználói felület készlet. Hasonló az AWT, Swing megoldásokhoz, de gyorsabb és gazdagabb. Az implementációja OS függő, bár ez a programozás szempontjából transzpare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3809880"/>
            <a:ext cx="2057400" cy="1943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657600" y="3733920"/>
            <a:ext cx="2019240" cy="2133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324480" y="3657600"/>
            <a:ext cx="2210040" cy="22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4BCB2-2ABD-4788-9CA7-5B0626649F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JFace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SWT-re épül és bővíti azt segéd osztályokkal a következő célokk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Viewer komponensekkel bővíti az SWT-t, amely révén a rabszolgamunkát könnyíti meg. (rendezés, szűrés, frissítés, stb.)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Felhasználói akciók kezelését támogatja. Hol jelenhetnek meg, illetve mikor engedélyezettek.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Dialógus és varázsló ablakok készítését segíti.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82C24-A1A8-425F-A526-F18030BBF1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Eclipse</a:t>
            </a: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clipse egy nyílt forráskódú közösség, akiknek a projektjei egy nyitott fejlesztő platform készítésére összpontosítanak magába foglalva a bővíthető keretrendszert és különböző eszközöket a build, deploy és manage folyamatokho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ezető technológia cégek, egyetemek és kutató intézetek bővítik és támogatják az Eclipse platform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FA0F8-43B8-443C-9560-79545983A6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Eclipse projektek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Eclipse nyílt forráskódú közösség több mint 60 nyílt forrású projektet tartalmaz. Ezek a projektek koncepcionálisan 7 különböz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ategóriába sorolhatóak 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2051"/>
                </a:solidFill>
                <a:latin typeface="Arial"/>
              </a:rPr>
              <a:t>Enterprise Development 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2051"/>
                </a:solidFill>
                <a:latin typeface="Arial"/>
              </a:rPr>
              <a:t>Embedded and Device Development 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2051"/>
                </a:solidFill>
                <a:latin typeface="Arial"/>
              </a:rPr>
              <a:t>Rich Client Platform 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2051"/>
                </a:solidFill>
                <a:latin typeface="Arial"/>
              </a:rPr>
              <a:t>Rich Internet Applications 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2051"/>
                </a:solidFill>
                <a:latin typeface="Arial"/>
              </a:rPr>
              <a:t>Application Frameworks 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2051"/>
                </a:solidFill>
                <a:latin typeface="Arial"/>
              </a:rPr>
              <a:t>Application Lifecycle Management (ALM) 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2051"/>
                </a:solidFill>
                <a:latin typeface="Arial"/>
              </a:rPr>
              <a:t>Service Oriented Architecture (SOA) 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A3191-AAAD-4C3B-8BCE-8A87467FC9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Eclipse Foundation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clipse Foundation egy nem profit orientált, tagok által támogatott vállalat, amely az Eclipse projekteket hosztolja. IT infrastruktúrával támogatja az Eclipse közösséget, mentora a nyílt forráskódú projekteknek az Eclipse fejlesztési folyamatban, továbbá marketing és üzleti fejlesztésekkel támogatja az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ontos megérteni, hogy az Eclipse Foundation nem fejleszt nyílt forráskódot. Minden nyílt forrású szoftvert önkéntesek, szervezetek, vagy vállalatok készíten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B6793-96D9-4F03-B23C-FBA6889C70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Az Eclipse létjogosultsága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endenciák a nyílt fejlesztőrendszerek előretörését mutatják, amelyeknek számos előnyös tulajdonsága van. Az alább felsoroltak mindegyikével rendelkezik az Eclip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Jól definiált keretrendszer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Nyílt specifikáció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Könnyen bővíthető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Platform-független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Programozási nyelv független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Optimális a gyorsan változó igényekhez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CAD87-9292-49C5-9EE5-FA0F488F00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Az Eclipse létjogosultsága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rős ipari támogatottsága v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2409840" cy="628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1219320"/>
            <a:ext cx="1380960" cy="819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334120" y="1295280"/>
            <a:ext cx="1447560" cy="685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990720" y="1981080"/>
            <a:ext cx="1885680" cy="1247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6019920" y="2209680"/>
            <a:ext cx="2381040" cy="6764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7162920" y="1295280"/>
            <a:ext cx="1295280" cy="552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5715000" y="50292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>
            <a:off x="2743200" y="3505320"/>
            <a:ext cx="2381400" cy="399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9"/>
          <a:stretch/>
        </p:blipFill>
        <p:spPr>
          <a:xfrm>
            <a:off x="990720" y="5257800"/>
            <a:ext cx="3914640" cy="666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0"/>
          <a:stretch/>
        </p:blipFill>
        <p:spPr>
          <a:xfrm>
            <a:off x="2286000" y="4114800"/>
            <a:ext cx="2819520" cy="743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1"/>
          <a:stretch/>
        </p:blipFill>
        <p:spPr>
          <a:xfrm>
            <a:off x="5791320" y="3048120"/>
            <a:ext cx="2190600" cy="685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2"/>
          <a:stretch/>
        </p:blipFill>
        <p:spPr>
          <a:xfrm>
            <a:off x="5486400" y="3962520"/>
            <a:ext cx="1733400" cy="761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3"/>
          <a:stretch/>
        </p:blipFill>
        <p:spPr>
          <a:xfrm>
            <a:off x="7010280" y="4876920"/>
            <a:ext cx="1524240" cy="1285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4"/>
          <a:stretch/>
        </p:blipFill>
        <p:spPr>
          <a:xfrm>
            <a:off x="914400" y="3657600"/>
            <a:ext cx="1295280" cy="638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5"/>
          <a:stretch/>
        </p:blipFill>
        <p:spPr>
          <a:xfrm>
            <a:off x="3733920" y="2438280"/>
            <a:ext cx="990360" cy="69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1A267-79AE-4613-89BF-7F473DDC40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Fontosabb Eclipse eszközök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DT – Java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Kód szerkesztés, debug, futtatás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DT – C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Hasonló a JDT-hez, csak C/C++ nyelvhez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DE – Plugin Development Enviro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Új pluginek készítése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WTP – Web Tools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J2EE platformra történő fejlesztést támogatja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52A9F-BDF5-41D5-AF3B-3015090FAC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Fontosabb Eclipse eszközök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pache Ant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ea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Csoportmunka támogatás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CVS (Concurrent Versioning System) támogatás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Update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A fejlesztő környezet frissítése a feladata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Moduláris, bővíthető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AE868-F341-4792-9E99-321AD7F16D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Fontosabb Eclipse eszközök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MF – Eclipse Modeling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Saját modellezési nyelvek kezelése, modellek menedzselése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EF – Graphical Editing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Grafikus editorok fejlesztése Eclipse alá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MT – Generative Model Transform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Modell-transzformációk fejlesztésének támogatása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PTP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&amp; Performance Tools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Tesztelés és teljesítmény mérés támogatása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FDD00-3C37-4139-869C-5300BA1BB4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6T08:56:43Z</dcterms:created>
  <dc:creator/>
  <dc:description/>
  <dc:language>en-US</dc:language>
  <cp:lastModifiedBy>sallai</cp:lastModifiedBy>
  <dcterms:modified xsi:type="dcterms:W3CDTF">2006-11-02T13:17:19Z</dcterms:modified>
  <cp:revision>537</cp:revision>
  <dc:subject/>
  <dc:title>Empty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bbr.">
    <vt:lpwstr>-</vt:lpwstr>
  </property>
  <property fmtid="{D5CDD505-2E9C-101B-9397-08002B2CF9AE}" pid="3" name="Language">
    <vt:lpwstr>Hungarian</vt:lpwstr>
  </property>
  <property fmtid="{D5CDD505-2E9C-101B-9397-08002B2CF9AE}" pid="4" name="Status">
    <vt:lpwstr>Approved</vt:lpwstr>
  </property>
  <property fmtid="{D5CDD505-2E9C-101B-9397-08002B2CF9AE}" pid="5" name="Template Approver">
    <vt:lpwstr>Pető Zoltán</vt:lpwstr>
  </property>
  <property fmtid="{D5CDD505-2E9C-101B-9397-08002B2CF9AE}" pid="6" name="Template Author">
    <vt:lpwstr>Pető Zoltán</vt:lpwstr>
  </property>
  <property fmtid="{D5CDD505-2E9C-101B-9397-08002B2CF9AE}" pid="7" name="Template Date">
    <vt:lpwstr>2006-10-12</vt:lpwstr>
  </property>
  <property fmtid="{D5CDD505-2E9C-101B-9397-08002B2CF9AE}" pid="8" name="Template Lang.">
    <vt:lpwstr>Hungarian</vt:lpwstr>
  </property>
  <property fmtid="{D5CDD505-2E9C-101B-9397-08002B2CF9AE}" pid="9" name="Template Name">
    <vt:lpwstr>Empty PowerPoint</vt:lpwstr>
  </property>
  <property fmtid="{D5CDD505-2E9C-101B-9397-08002B2CF9AE}" pid="10" name="Template Parent">
    <vt:lpwstr>-</vt:lpwstr>
  </property>
  <property fmtid="{D5CDD505-2E9C-101B-9397-08002B2CF9AE}" pid="11" name="Template Status">
    <vt:lpwstr>Approved</vt:lpwstr>
  </property>
  <property fmtid="{D5CDD505-2E9C-101B-9397-08002B2CF9AE}" pid="12" name="Template Validity">
    <vt:lpwstr>2006-10-12</vt:lpwstr>
  </property>
  <property fmtid="{D5CDD505-2E9C-101B-9397-08002B2CF9AE}" pid="13" name="Template Version">
    <vt:lpwstr>1.0</vt:lpwstr>
  </property>
  <property fmtid="{D5CDD505-2E9C-101B-9397-08002B2CF9AE}" pid="14" name="Tool">
    <vt:lpwstr>PowerPoint</vt:lpwstr>
  </property>
  <property fmtid="{D5CDD505-2E9C-101B-9397-08002B2CF9AE}" pid="15" name="Valid from">
    <vt:lpwstr>2006-10-12T00:00:00Z</vt:lpwstr>
  </property>
  <property fmtid="{D5CDD505-2E9C-101B-9397-08002B2CF9AE}" pid="16" name="Version0">
    <vt:lpwstr>1.0</vt:lpwstr>
  </property>
</Properties>
</file>