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0205-2B76-4674-AECD-62AF84B7D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CEBC-6E3E-4092-9F10-F75E3FC5D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7818-797E-42BD-B5C6-84DE0166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F2C0-D7DA-4EC8-9589-B182BD5EA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CF4E-D19A-4968-9031-99B5190C9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3D72-D20A-4745-A1F6-6BB748374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A0C-E768-4072-93F8-3E1010D86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56E-E4C8-4EB0-BA3B-63B9CA2BF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73CA-B971-4CED-950A-905320359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B7A4-50A5-491D-93FA-6B77EBF04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622A-47DD-439A-BA1B-7A0E2B179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0F64-21D2-44CB-AF1B-F599460B8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5E98-194E-4C5D-AE6C-A9F003FF01A8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VC (Model-View-Control) alapú TableView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ction létrehozása, és felhasználása különböző helyek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z még mindig „halott” plugin. Igazából semmit nem csiná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A23-23A0-475B-8A58-D8A5EC604A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8C03-53A8-4888-9577-7507063482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ava.util.Properties a modell (init és dispose függvények szerep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ódosított tábláza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dd, edit, remove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gészíteni egy PreferencePage-el, ahol a properties fájl megadására van lehetőség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F1B2-C339-43C5-BF8C-7DD77C0773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World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39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0847-90B4-4145-AEE0-9934F126D1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szt SDK létrehoz egy teszt workspace könyvtára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-EclipseApplicatio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az már ismeretes minden beállítás a workspaceben tárolódik a projektekkel együ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pló állomány is itt találhat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lo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Ennek fontos szerepe van a fejlesztés so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ükség esetén ez a teszt workspace bármikor töröl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AAE-90EC-47D9-A74A-628C65DFA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dulásko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etölti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clipse/plugin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lévő összes plugin leíróját (plugin.xm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egállapítja a plugin szolgáltatásai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üggőségeket vizsgá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példányosít – Lazy loa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 betöltése után megjelenik az SD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ővítési pontokon (extension points) fejti ki a „hatását” a plu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nek saját ID-j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4BDF-5EAE-45A0-9E07-C8DB1A53E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eclipse version="3.2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tension point="org.eclipse.ui.actionSet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Set label="Sample Action Set" visible="tru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e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menu label="Sample &amp;amp;Menu" id="sampleMenu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eparator name="sampleGroup"&gt;&lt;/separat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men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 label="&amp;amp;Sample Action" icon="icons/sample.gif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="org.me.plugin.sample1.actions.SampleActio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tip="Hello, Eclipse world" menubarPath="sampleMenu/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barPath="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.SampleActio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Se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ext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7605-C4D2-4358-A6C1-90DA5B19B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javasol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uild.properti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rkesztése kézz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 – Összefoglalás a plugin legfontosabb tulajdonságairól. A teszt SDK indítása és a plugin exportálása is itt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pendencies – A függőségeket tartalmazza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equired Plug-i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kció az egyéb használt plugineket írja 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7FBF-FE50-412D-944F-0DDB28AA9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ntime –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ported Pack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tartalmazza azokat a packageket, amiket további pluginek láthatnak a saját pluginben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a third party libek felsorolására ad lehetősé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s – A használt bővítési pontokat adj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 Points – Új bővítési pontok létrehozására alkal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– Az exportálás beállításit tartalma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1882-C0A3-4B10-8BBC-A18DEEDBDF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 Class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 aktiválásakor példányosodik, és csakis egy példányban minden más class elő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vetően nem érdekes, de később még lesz szerepe képek használat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A110-3CED-4126-AA1C-06FE0C71B4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5E80-4E23-40AC-B760-304A12CFD9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0:40:42Z</dcterms:modified>
  <cp:revision>543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