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5328-D81E-47C0-8BD8-628B62E64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D81F-5771-4B63-AAA0-99F4765F0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D400-F8FB-4A4C-A62A-81D7C382D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CC15-923D-43AA-AAAB-9076E3918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EB1F-910C-469C-A6E9-8A7BBF1FF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DBB8-8039-4C95-857B-F444E86FE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F1E8-4459-4B31-8C95-A4C9404C5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5C99-3677-4E2A-AF39-5F21B7980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5B63-E48D-4DAB-B473-F71314C5B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8D78-E8CE-4525-A75E-8B7670A17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96C2-FF3E-4016-A3ED-AB7B7B1CE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D6C3-FD24-4B74-85CC-22C4E895F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CE25-A11F-47A5-85D2-034165DC5FA4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Eclipse ala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Eclipse alapok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6-10-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Fontosabb Eclipse eszközö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RT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Intelligence and Report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Riport készítés támog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ub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VN (Subversion) támog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Nem Eclipse projekt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5740-318C-422E-B491-B2D429F6DA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FrameWor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ga az Eclipse FrameWork nem egy konkrét, monolit program, hanem egy kis kernel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lugin loade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néven. Szinte semmilyen látható szolgáltatása sincs a pluginek betöltésén és kezelésén kívü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olgáltatásokat gyakorlatilag a pluginek adják, amik egymásra épülnek, használják egymás szolgáltatásait, illetve a felhasználó felé is nyújthatnak további szolgáltatáso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816B-D39B-4C56-BCC2-14FD16E588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FrameWor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476760" cy="54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D82F-F0C8-48C4-87AE-569F626D45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FrameWor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924680" cy="53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5071-F32B-4F7D-A62A-88F8DDD43E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Workspace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Workspace gyakorlatilag egy könyvtár, ahol a felhasználó munkája tárolód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ntos megjegyezni, hogy nemcsak a szokásos munka fájlokat (forráskód, xml, kép, stb.) tartalmazza, hanem az összes beállítást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Workspace váltásnak, mint lehetőségnek, nagyon nagy szerepe lehet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Problémákat, érdekes jelenségeket okozhat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25AE-27E6-4A49-8F45-C29ADB977F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Workbench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Workbench gyakorlatilag a felület, amin keresztül a felhasználó munkáját végzi. A szokásos elemeken kívül perspektívákat, editorokat és nézeteket tartalmazh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ézetek az editorokat támogatják, továbbá alternatív prezentációt vagy navigációt biztosítanak a Workbench számá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erspektívák a különböző nézetek és egy editor területet tartalmaznak. Míg a nézetek halmaza eltérhet a különböző perspektívákban, addig az editor terület megosztott közöttü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0F113-2CD5-4B22-B108-CDA9BBAA47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Workbench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0" y="676440"/>
            <a:ext cx="4572000" cy="55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70C1-EE7D-4697-B01D-CF4F714DDF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SW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ndard Widget Tool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nyílt forráskódú felhasználói felület készlet. Hasonló az AWT, Swing megoldásokhoz, de gyorsabb és gazdagabb. Az implementációja OS függő, bár ez a programozás szempontjából transzpar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2057400" cy="1943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2019240" cy="2133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324480" y="3657600"/>
            <a:ext cx="2210040" cy="22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F856-C2A0-4DFF-B028-0098FC01C8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JFace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SWT-re épül és bővíti azt segéd osztályokkal a következő célokk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Viewer komponensekkel bővíti az SWT-t, amely révén a rabszolgamunkát könnyíti meg. (rendezés, szűrés, frissítés, stb.)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Felhasználói akciók kezelését támogatja. Hol jelenhetnek meg, illetve mikor engedélyezettek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Dialógus és varázsló ablakok készítését segíti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470C8-AF7C-452B-9DE1-A7C1957903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egy nyílt forráskódú közösség, akiknek a projektjei egy nyitott fejlesztő platform készítésére összpontosítanak magába foglalva a bővíthető keretrendszert és különböző eszközöket a build, deploy és manage folyamatokho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ezető technológia cégek, egyetemek és kutató intézetek bővítik és támogatják az Eclipse platform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2149-9647-4996-90B0-972872413F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projekte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clipse nyílt forráskódú közösség több mint 60 nyílt forrású projektet tartalmaz. Ezek a projektek koncepcionálisan 7 különböz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ategóriába sorolhatóak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Enterprise Development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Embedded and Device Development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Rich Client Platform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Rich Internet Applications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Application Frameworks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Application Lifecycle Management (ALM)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rvice Oriented Architecture (SOA)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0B91-20B9-4160-B128-6D6682F4AE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Foundation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Foundation egy nem profit orientált, tagok által támogatott vállalat, amely az Eclipse projekteket hosztolja. IT infrastruktúrával támogatja az Eclipse közösséget, mentora a nyílt forráskódú projekteknek az Eclipse fejlesztési folyamatban, továbbá marketing és üzleti fejlesztésekkel támogatja az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ntos megérteni, hogy az Eclipse Foundation nem fejleszt nyílt forráskódot. Minden nyílt forrású szoftvert önkéntesek, szervezetek, vagy vállalatok készíte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8A95-E41E-40B7-9163-2AC19329F2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Az Eclipse létjogosultság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ndenciák a nyílt fejlesztőrendszerek előretörését mutatják, amelyeknek számos előnyös tulajdonsága van. Az alább felsoroltak mindegyikével rendelkezik az Eclip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Jól definiált keretrendszer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Nyílt specifikáció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Könnyen bővíthető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Platform-függetle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Programozási nyelv függetle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Optimális a gyorsan változó igényekhez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F100-F0E2-4BE1-9F8A-519DB9D4C7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Az Eclipse létjogosultság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rős ipari támogatottsága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2409840" cy="628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1219320"/>
            <a:ext cx="1380960" cy="81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34120" y="1295280"/>
            <a:ext cx="144756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990720" y="1981080"/>
            <a:ext cx="1885680" cy="1247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019920" y="2209680"/>
            <a:ext cx="2381040" cy="676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162920" y="1295280"/>
            <a:ext cx="1295280" cy="552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5715000" y="5029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2743200" y="3505320"/>
            <a:ext cx="2381400" cy="399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990720" y="5257800"/>
            <a:ext cx="3914640" cy="6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2286000" y="4114800"/>
            <a:ext cx="2819520" cy="743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5791320" y="3048120"/>
            <a:ext cx="219060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5486400" y="3962520"/>
            <a:ext cx="1733400" cy="761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3"/>
          <a:stretch/>
        </p:blipFill>
        <p:spPr>
          <a:xfrm>
            <a:off x="7010280" y="4876920"/>
            <a:ext cx="1524240" cy="12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4"/>
          <a:stretch/>
        </p:blipFill>
        <p:spPr>
          <a:xfrm>
            <a:off x="914400" y="3657600"/>
            <a:ext cx="1295280" cy="638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3733920" y="2438280"/>
            <a:ext cx="990360" cy="69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617E0-9949-4CC6-9566-D6A6ECCC4A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Fontosabb Eclipse eszközö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DT – Java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Kód szerkesztés, debug, futt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DT – C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Hasonló a JDT-hez, csak C/C++ nyelvhez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DE – Plugin Development Envir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Új pluginek készítése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TP – Web Tools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J2EE platformra történő fejlesztést támogatja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0C2D-3158-47DE-892F-BC98C9D2A3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Fontosabb Eclipse eszközö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pache A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a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Csoportmunka támog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CVS (Concurrent Versioning System) támog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pdat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A fejlesztő környezet frissítése a feladata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oduláris, bővíthető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DA58-A701-41E8-99A2-94ACA390E1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Fontosabb Eclipse eszközö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MF – Eclipse Model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aját modellezési nyelvek kezelése, modellek menedzselése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EF – Graphical Edit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Grafikus editorok fejlesztése Eclipse alá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MT – Generative Model Trans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odell-transzformációk fejlesztésének támogatása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PTP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&amp; Performance Tools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Tesztelés és teljesítmény mérés támogatása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389D-B3BA-4D46-A68E-D8071FA7E2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6-11-02T13:17:19Z</dcterms:modified>
  <cp:revision>537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