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BB50-70F3-46B8-A7A2-96E2DB545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08F1-E353-49A1-87AA-A1E1B32C0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516A-01B1-4336-89CF-385D9A6EA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D844-C8AF-494D-8BF2-8B9850EBF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544E-518E-4E1E-95AD-77EA23179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5F32-7D2A-4A2F-B94A-233D33950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459C-4583-48FD-A266-DA3766016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E50D-2BDD-451E-9811-39C0C7AA2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2829-A21C-412A-9CBF-B9EC6A0C7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A2C5-C36A-47CF-9AAE-51D969550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1FD8-9ED1-48B2-BD85-B1CDA0D99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8C3F-28D2-4CC4-8DF9-E8C1F4DCA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FB2F-0CF7-469D-BB91-7391F7EBDA90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Hello World plu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Hello World plugin továbbfejlesztése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6-10-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plugin.sampl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96080" cy="38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2587-707F-457B-8DDE-E7264717E9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gondolat, észrevét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ima SWT alapú az edit abla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Hasonló egyéb widget megoldásokhoz (AWT, Swing), de gyorsabb és gazdagabb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WT alkalmazás is készíthető, mint az AWT esetén, bár natív kódrészletek miatt gyengén platform független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AB11-A0A9-406B-95FC-0B9C2CAE93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ditor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óbáljunk közösen létrehozni egy Editort, amely a beépített IE motort (win32) használ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7CFE-7915-47DC-B033-846F00979B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7-03-01T12:16:14Z</dcterms:modified>
  <cp:revision>544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