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C7D53-CA34-4334-A28F-8F742673B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BD344-B870-452D-B0EA-5718BB8F0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B897-C935-4319-8F03-8DDD2D3C9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494A7-8D9A-4038-9951-11D64AA2B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7959-B4A9-4FF5-AE66-FC79544F0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00F1-7E57-402D-BAC4-26F661DE3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D40C-A6C9-49D6-BBB2-50204369F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92E8-656A-4656-8ECA-73A9A9E79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44D39-B8DB-46A0-8919-3C1C3E3BC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38DB-A296-48A8-A806-C49BE6CCB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E5463-D6F9-442C-A4AB-1AF0A78DE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974A-8E33-468B-8063-6DAF443B3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5680">
              <a:spcBef>
                <a:spcPts val="1749"/>
              </a:spcBef>
              <a:spcAft>
                <a:spcPts val="1749"/>
              </a:spcAft>
              <a:buClr>
                <a:srgbClr val="33339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8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12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E624-EAF6-4794-BBEB-04AA666CF5FD}" type="slidenum">
              <a:rPr b="0" lang="en-US" sz="1200" spc="-1" strike="noStrike">
                <a:solidFill>
                  <a:srgbClr val="1120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5527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ilvánosan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2720"/>
            <a:ext cx="82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Hello World plu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200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© 2006 IND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00080" algn="ctr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2" marL="914400" indent="712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0036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12051"/>
                </a:solidFill>
                <a:latin typeface="Arial"/>
              </a:rPr>
              <a:t>Hello World plugin továbbfejlesztése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: Eclipse ok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átusz: Kidolgozás al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zió: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ódosítva: 2006-10-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szítette: Sallai Krisztián Zs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izalmasság: Nyilvánosan használ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plugin.sampl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96080" cy="389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535E-A27E-4604-B190-76A95A1B69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hány gondolat, észrevét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ima SWT alapú az edit abla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Hasonló egyéb widget megoldásokhoz (AWT, Swing), de gyorsabb és gazdagabb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WT alkalmazás is készíthető, mint az AWT esetén, bár natív kódrészletek miatt gyengén platform független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0F16-96A8-4815-A973-C74143728B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ditor péld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óbáljunk közösen létrehozni egy Editort, amely a beépített IE motort (win32) használ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CFC1E-AB3B-4E01-91A0-6D2B298EF9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56:43Z</dcterms:created>
  <dc:creator/>
  <dc:description/>
  <dc:language>en-US</dc:language>
  <cp:lastModifiedBy>sallai</cp:lastModifiedBy>
  <dcterms:modified xsi:type="dcterms:W3CDTF">2007-03-01T12:16:14Z</dcterms:modified>
  <cp:revision>544</cp:revision>
  <dc:subject/>
  <dc:title>Empty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br.">
    <vt:lpwstr>-</vt:lpwstr>
  </property>
  <property fmtid="{D5CDD505-2E9C-101B-9397-08002B2CF9AE}" pid="3" name="Language">
    <vt:lpwstr>Hungarian</vt:lpwstr>
  </property>
  <property fmtid="{D5CDD505-2E9C-101B-9397-08002B2CF9AE}" pid="4" name="Status">
    <vt:lpwstr>Approved</vt:lpwstr>
  </property>
  <property fmtid="{D5CDD505-2E9C-101B-9397-08002B2CF9AE}" pid="5" name="Template Approver">
    <vt:lpwstr>Pető Zoltán</vt:lpwstr>
  </property>
  <property fmtid="{D5CDD505-2E9C-101B-9397-08002B2CF9AE}" pid="6" name="Template Author">
    <vt:lpwstr>Pető Zoltán</vt:lpwstr>
  </property>
  <property fmtid="{D5CDD505-2E9C-101B-9397-08002B2CF9AE}" pid="7" name="Template Date">
    <vt:lpwstr>2006-10-12</vt:lpwstr>
  </property>
  <property fmtid="{D5CDD505-2E9C-101B-9397-08002B2CF9AE}" pid="8" name="Template Lang.">
    <vt:lpwstr>Hungarian</vt:lpwstr>
  </property>
  <property fmtid="{D5CDD505-2E9C-101B-9397-08002B2CF9AE}" pid="9" name="Template Name">
    <vt:lpwstr>Empty PowerPoint</vt:lpwstr>
  </property>
  <property fmtid="{D5CDD505-2E9C-101B-9397-08002B2CF9AE}" pid="10" name="Template Parent">
    <vt:lpwstr>-</vt:lpwstr>
  </property>
  <property fmtid="{D5CDD505-2E9C-101B-9397-08002B2CF9AE}" pid="11" name="Template Status">
    <vt:lpwstr>Approved</vt:lpwstr>
  </property>
  <property fmtid="{D5CDD505-2E9C-101B-9397-08002B2CF9AE}" pid="12" name="Template Validity">
    <vt:lpwstr>2006-10-12</vt:lpwstr>
  </property>
  <property fmtid="{D5CDD505-2E9C-101B-9397-08002B2CF9AE}" pid="13" name="Template Version">
    <vt:lpwstr>1.0</vt:lpwstr>
  </property>
  <property fmtid="{D5CDD505-2E9C-101B-9397-08002B2CF9AE}" pid="14" name="Tool">
    <vt:lpwstr>PowerPoint</vt:lpwstr>
  </property>
  <property fmtid="{D5CDD505-2E9C-101B-9397-08002B2CF9AE}" pid="15" name="Valid from">
    <vt:lpwstr>2006-10-12T00:00:00Z</vt:lpwstr>
  </property>
  <property fmtid="{D5CDD505-2E9C-101B-9397-08002B2CF9AE}" pid="16" name="Version0">
    <vt:lpwstr>1.0</vt:lpwstr>
  </property>
</Properties>
</file>