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0115FE-1BBF-4B4D-B854-427C399CC0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822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555000"/>
            <a:ext cx="822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882FB4-7E01-4E7C-AA3E-3B950E3AA2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2840" y="60948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55500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2840" y="355500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18D3AD-CE64-4201-BC34-4A0C967FE5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264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8240" y="609480"/>
            <a:ext cx="264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50680" y="609480"/>
            <a:ext cx="264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555000"/>
            <a:ext cx="264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8240" y="3555000"/>
            <a:ext cx="264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50680" y="3555000"/>
            <a:ext cx="264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FA0DA9-77F0-4F56-AAFB-58A5430BD5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40158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902840" y="609480"/>
            <a:ext cx="40158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440" y="75960"/>
            <a:ext cx="75438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02840" y="609480"/>
            <a:ext cx="40158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355500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DDDFE9-29E8-4D67-9823-CB1BF14C8F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40158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02840" y="60948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902840" y="355500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02840" y="60948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3555000"/>
            <a:ext cx="822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822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3555000"/>
            <a:ext cx="822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02840" y="60948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355500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902840" y="355500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264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468240" y="609480"/>
            <a:ext cx="264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250680" y="609480"/>
            <a:ext cx="264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3555000"/>
            <a:ext cx="264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468240" y="3555000"/>
            <a:ext cx="264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250680" y="3555000"/>
            <a:ext cx="264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9D2B58-9E9E-47D3-A073-00066BBC6E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40158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2840" y="609480"/>
            <a:ext cx="40158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B6BC47-7C78-4A3E-8AA3-46A138167F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48D39A-AA97-45E6-BD9F-AB87B52FCD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440" y="75960"/>
            <a:ext cx="75438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9AB28D-B2BF-4278-A9A3-AC97A85B7E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2840" y="609480"/>
            <a:ext cx="40158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55500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11F986-013D-4F7B-B9D4-451E3AF8CF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40158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2840" y="60948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2840" y="355500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FE9B86-2C8E-41FA-A472-8595ACCD0E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2840" y="60948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555000"/>
            <a:ext cx="822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CF3BC4-BCF4-4FD4-8C2E-7E1A64160E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12051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6094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>
              <a:spcBef>
                <a:spcPts val="1749"/>
              </a:spcBef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5960" indent="-265680">
              <a:spcBef>
                <a:spcPts val="1749"/>
              </a:spcBef>
              <a:spcAft>
                <a:spcPts val="1749"/>
              </a:spcAft>
              <a:buClr>
                <a:srgbClr val="333399"/>
              </a:buClr>
              <a:buFont typeface="Wingdings" charset="2"/>
              <a:buChar char="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65880">
              <a:spcBef>
                <a:spcPts val="1749"/>
              </a:spcBef>
              <a:spcAft>
                <a:spcPts val="1749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400040">
              <a:spcBef>
                <a:spcPts val="1749"/>
              </a:spcBef>
              <a:spcAft>
                <a:spcPts val="1749"/>
              </a:spcAft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764000">
              <a:spcBef>
                <a:spcPts val="1749"/>
              </a:spcBef>
              <a:spcAft>
                <a:spcPts val="1749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764000">
              <a:spcBef>
                <a:spcPts val="1749"/>
              </a:spcBef>
              <a:spcAft>
                <a:spcPts val="1749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764000">
              <a:spcBef>
                <a:spcPts val="1749"/>
              </a:spcBef>
              <a:spcAft>
                <a:spcPts val="1749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8381880" y="6552720"/>
            <a:ext cx="533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1205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D9686-E891-4032-9B6E-70174A6A0842}" type="slidenum">
              <a:rPr b="0" lang="en-US" sz="1200" spc="-1" strike="noStrike">
                <a:solidFill>
                  <a:srgbClr val="11205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38080" y="6552720"/>
            <a:ext cx="1828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Nyilvánosan használhat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6552720"/>
            <a:ext cx="8229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112051"/>
                </a:solidFill>
                <a:latin typeface="Arial"/>
              </a:rPr>
              <a:t>Hello World plug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305920" y="76320"/>
            <a:ext cx="53316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2051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6552000"/>
            <a:ext cx="914400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112051"/>
                </a:solidFill>
                <a:latin typeface="Arial"/>
              </a:rPr>
              <a:t>© 2006 IND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00080" algn="ctr">
              <a:buClr>
                <a:srgbClr val="33339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120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112051"/>
              </a:solidFill>
              <a:latin typeface="Arial"/>
            </a:endParaRPr>
          </a:p>
          <a:p>
            <a:pPr lvl="2" marL="914400" indent="7128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57240" algn="ctr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00360" algn="ctr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80036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80036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112051"/>
                </a:solidFill>
                <a:latin typeface="Arial"/>
              </a:rPr>
              <a:t>Hello World plugin továbbfejlesztése</a:t>
            </a:r>
            <a:endParaRPr b="1" lang="en-US" sz="36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685800" y="35049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rojekt: Eclipse oktatá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Státusz: Kidolgozás alat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erzió: 0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Módosítva: 2006-10-3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észítette: Sallai Krisztián Zsol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Bizalmasság: Nyilvánosan használhat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3733920" y="762120"/>
            <a:ext cx="1600200" cy="9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112051"/>
                </a:solidFill>
                <a:latin typeface="Arial"/>
              </a:rPr>
              <a:t>View példa</a:t>
            </a:r>
            <a:r>
              <a:rPr b="0" lang="hu-HU" sz="2800" spc="-1" strike="noStrike">
                <a:solidFill>
                  <a:srgbClr val="112051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Projekt: org.me.plugin.sample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96080" cy="3890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A18B9C-68C9-4AE1-B4F3-9C888007BB9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112051"/>
                </a:solidFill>
                <a:latin typeface="Arial"/>
              </a:rPr>
              <a:t>View példa</a:t>
            </a: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Néhány gondolat, észrevéte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1440">
              <a:buClr>
                <a:srgbClr val="33339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112051"/>
                </a:solidFill>
                <a:latin typeface="Arial"/>
              </a:rPr>
              <a:t>Sima SWT alapú az edit ablak</a:t>
            </a:r>
            <a:endParaRPr b="0" lang="en-US" sz="2400" spc="-1" strike="noStrike">
              <a:solidFill>
                <a:srgbClr val="112051"/>
              </a:solidFill>
              <a:latin typeface="Arial"/>
            </a:endParaRPr>
          </a:p>
          <a:p>
            <a:pPr lvl="1" marL="628560" indent="-271440">
              <a:buClr>
                <a:srgbClr val="33339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112051"/>
                </a:solidFill>
                <a:latin typeface="Arial"/>
              </a:rPr>
              <a:t>Hasonló egyéb widget megoldásokhoz (AWT, Swing), de gyorsabb és gazdagabb.</a:t>
            </a:r>
            <a:endParaRPr b="0" lang="en-US" sz="2400" spc="-1" strike="noStrike">
              <a:solidFill>
                <a:srgbClr val="112051"/>
              </a:solidFill>
              <a:latin typeface="Arial"/>
            </a:endParaRPr>
          </a:p>
          <a:p>
            <a:pPr lvl="1" marL="628560" indent="-271440">
              <a:buClr>
                <a:srgbClr val="33339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112051"/>
                </a:solidFill>
                <a:latin typeface="Arial"/>
              </a:rPr>
              <a:t>SWT alkalmazás is készíthető, mint az AWT esetén, bár natív kódrészletek miatt gyengén platform független.</a:t>
            </a:r>
            <a:endParaRPr b="0" lang="en-US" sz="24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D51279-7F54-403B-93F5-D8DD074FE62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112051"/>
                </a:solidFill>
                <a:latin typeface="Arial"/>
              </a:rPr>
              <a:t>Editor példa</a:t>
            </a: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Próbáljunk közösen létrehozni egy Editort, amely a beépített IE motort (win32) használj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8B6FD-FED3-4989-A06A-7F737132C71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6T08:56:43Z</dcterms:created>
  <dc:creator/>
  <dc:description/>
  <dc:language>en-US</dc:language>
  <cp:lastModifiedBy>sallai</cp:lastModifiedBy>
  <dcterms:modified xsi:type="dcterms:W3CDTF">2007-03-01T12:16:14Z</dcterms:modified>
  <cp:revision>544</cp:revision>
  <dc:subject/>
  <dc:title>Empty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bbr.">
    <vt:lpwstr>-</vt:lpwstr>
  </property>
  <property fmtid="{D5CDD505-2E9C-101B-9397-08002B2CF9AE}" pid="3" name="Language">
    <vt:lpwstr>Hungarian</vt:lpwstr>
  </property>
  <property fmtid="{D5CDD505-2E9C-101B-9397-08002B2CF9AE}" pid="4" name="Status">
    <vt:lpwstr>Approved</vt:lpwstr>
  </property>
  <property fmtid="{D5CDD505-2E9C-101B-9397-08002B2CF9AE}" pid="5" name="Template Approver">
    <vt:lpwstr>Pető Zoltán</vt:lpwstr>
  </property>
  <property fmtid="{D5CDD505-2E9C-101B-9397-08002B2CF9AE}" pid="6" name="Template Author">
    <vt:lpwstr>Pető Zoltán</vt:lpwstr>
  </property>
  <property fmtid="{D5CDD505-2E9C-101B-9397-08002B2CF9AE}" pid="7" name="Template Date">
    <vt:lpwstr>2006-10-12</vt:lpwstr>
  </property>
  <property fmtid="{D5CDD505-2E9C-101B-9397-08002B2CF9AE}" pid="8" name="Template Lang.">
    <vt:lpwstr>Hungarian</vt:lpwstr>
  </property>
  <property fmtid="{D5CDD505-2E9C-101B-9397-08002B2CF9AE}" pid="9" name="Template Name">
    <vt:lpwstr>Empty PowerPoint</vt:lpwstr>
  </property>
  <property fmtid="{D5CDD505-2E9C-101B-9397-08002B2CF9AE}" pid="10" name="Template Parent">
    <vt:lpwstr>-</vt:lpwstr>
  </property>
  <property fmtid="{D5CDD505-2E9C-101B-9397-08002B2CF9AE}" pid="11" name="Template Status">
    <vt:lpwstr>Approved</vt:lpwstr>
  </property>
  <property fmtid="{D5CDD505-2E9C-101B-9397-08002B2CF9AE}" pid="12" name="Template Validity">
    <vt:lpwstr>2006-10-12</vt:lpwstr>
  </property>
  <property fmtid="{D5CDD505-2E9C-101B-9397-08002B2CF9AE}" pid="13" name="Template Version">
    <vt:lpwstr>1.0</vt:lpwstr>
  </property>
  <property fmtid="{D5CDD505-2E9C-101B-9397-08002B2CF9AE}" pid="14" name="Tool">
    <vt:lpwstr>PowerPoint</vt:lpwstr>
  </property>
  <property fmtid="{D5CDD505-2E9C-101B-9397-08002B2CF9AE}" pid="15" name="Valid from">
    <vt:lpwstr>2006-10-12T00:00:00Z</vt:lpwstr>
  </property>
  <property fmtid="{D5CDD505-2E9C-101B-9397-08002B2CF9AE}" pid="16" name="Version0">
    <vt:lpwstr>1.0</vt:lpwstr>
  </property>
</Properties>
</file>