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50BF-D62C-44DE-8229-7F4F795E5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4E1F-06E4-40BB-A594-5703DC161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5DC3-09F6-47A9-AFC5-F98A01A42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A799-F20F-46E4-A3B7-4434E8C61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093C-586D-4F4B-9B23-F14155AD7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8C25-940E-4370-B6B4-7FAC97C74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7BB0-8068-4528-BF50-CDE5AB232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C3A9-E445-4347-8841-17BBE97C4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8176-F60C-40B5-9535-015029880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AB21-37DD-4936-B7E2-D663247ED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D09C-9668-451C-BC3A-2A0F8FC3E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DF60D-8675-4C0D-900D-9719680EA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3CF-232E-4443-A70A-0C99FF28DDF2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VC (Model-View-Control) alapú TableView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ction létrehozása, és felhasználása különböző helyek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z még mindig „halott” plugin. Igazából semmit nem csiná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6F5D-397B-49BD-BF83-2DC750B45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CBFE-03D3-4CDB-8D7B-7B7F616A13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ava.util.Properties a modell (init és dispose függvények szerep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ódosított tábláza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dd, edit, remove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gészíteni egy PreferencePage-el, ahol a properties fájl megadására van lehetőség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62CC-3776-4447-A451-A2A0D9195D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World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39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BC93-DEF0-48F7-89EA-41E368F533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szt SDK létrehoz egy teszt workspace könyvtára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-EclipseApplicatio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az már ismeretes minden beállítás a workspaceben tárolódik a projektekkel együ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pló állomány is itt találhat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lo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Ennek fontos szerepe van a fejlesztés so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ükség esetén ez a teszt workspace bármikor töröl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6EF6-1B9D-4EA5-AE29-8C8965A8F5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dulásko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etölti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clipse/plugin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lévő összes plugin leíróját (plugin.xm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egállapítja a plugin szolgáltatásai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üggőségeket vizsgá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példányosít – Lazy loa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 betöltése után megjelenik az SD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ővítési pontokon (extension points) fejti ki a „hatását” a plu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nek saját ID-j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2823-FBCD-43C8-AF58-82017DE303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eclipse version="3.2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tension point="org.eclipse.ui.actionSet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Set label="Sample Action Set" visible="tru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e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menu label="Sample &amp;amp;Menu" id="sampleMenu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eparator name="sampleGroup"&gt;&lt;/separat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men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 label="&amp;amp;Sample Action" icon="icons/sample.gif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="org.me.plugin.sample1.actions.SampleActio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tip="Hello, Eclipse world" menubarPath="sampleMenu/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barPath="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.SampleActio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Se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ext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1EFB-5128-42A4-B1FB-78855B33F4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javasol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uild.properti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rkesztése kézz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 – Összefoglalás a plugin legfontosabb tulajdonságairól. A teszt SDK indítása és a plugin exportálása is itt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pendencies – A függőségeket tartalmazza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equired Plug-i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kció az egyéb használt plugineket írja 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0866-B2F4-4E71-99DD-A6472FD6EA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ntime –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ported Pack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tartalmazza azokat a packageket, amiket további pluginek láthatnak a saját pluginben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a third party libek felsorolására ad lehetősé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s – A használt bővítési pontokat adj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 Points – Új bővítési pontok létrehozására alkal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– Az exportálás beállításit tartalma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D884-BF0B-4184-BA14-3E011428F0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 Class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 aktiválásakor példányosodik, és csakis egy példányban minden más class elő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vetően nem érdekes, de később még lesz szerepe képek használat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C8A6-C6F5-4960-89F0-E609F7156B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65F7-8093-4ABA-A587-046638F3C6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0:40:42Z</dcterms:modified>
  <cp:revision>543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