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D8120-CC75-49EC-856B-9C7F82FFAF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822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555000"/>
            <a:ext cx="822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3ED06-CA71-4789-B8DA-F55F3942AF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2840" y="609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55500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2840" y="355500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3365C-41B9-4251-ACF6-A53FDB144C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8240" y="60948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50680" y="60948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55500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8240" y="355500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50680" y="355500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66167-76E8-4058-ACE6-2F6F315CEC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40158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02840" y="609480"/>
            <a:ext cx="40158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440" y="75960"/>
            <a:ext cx="75438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02840" y="609480"/>
            <a:ext cx="40158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355500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08D60-B656-428C-9160-AEA95E66B2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40158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02840" y="609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02840" y="355500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02840" y="609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3555000"/>
            <a:ext cx="822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822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3555000"/>
            <a:ext cx="822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02840" y="609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355500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902840" y="355500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468240" y="60948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250680" y="60948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355500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468240" y="355500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250680" y="355500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41D45-FFCD-43C8-860B-A5632823E3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40158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2840" y="609480"/>
            <a:ext cx="40158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DE69B-8227-47C0-BCC1-D07C585412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56B2B-FDBE-4D3A-81AF-7D047E72A8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440" y="75960"/>
            <a:ext cx="75438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347F4-E892-44C2-88EB-CD83586249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2840" y="609480"/>
            <a:ext cx="40158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55500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07C9A-DCAE-46ED-B1D6-0D49A2E2F7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40158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2840" y="609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2840" y="355500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2D64D-5AE7-4702-9FFF-9214DABBCF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2840" y="609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555000"/>
            <a:ext cx="822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7540F-D7E6-4F9C-8062-C8EF4C045A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2051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spcBef>
                <a:spcPts val="1749"/>
              </a:spcBef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5960" indent="-265680">
              <a:spcBef>
                <a:spcPts val="1749"/>
              </a:spcBef>
              <a:spcAft>
                <a:spcPts val="1749"/>
              </a:spcAft>
              <a:buClr>
                <a:srgbClr val="33339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65880">
              <a:spcBef>
                <a:spcPts val="1749"/>
              </a:spcBef>
              <a:spcAft>
                <a:spcPts val="1749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00040">
              <a:spcBef>
                <a:spcPts val="1749"/>
              </a:spcBef>
              <a:spcAft>
                <a:spcPts val="1749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64000">
              <a:spcBef>
                <a:spcPts val="1749"/>
              </a:spcBef>
              <a:spcAft>
                <a:spcPts val="1749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64000">
              <a:spcBef>
                <a:spcPts val="1749"/>
              </a:spcBef>
              <a:spcAft>
                <a:spcPts val="1749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64000">
              <a:spcBef>
                <a:spcPts val="1749"/>
              </a:spcBef>
              <a:spcAft>
                <a:spcPts val="1749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381880" y="6552720"/>
            <a:ext cx="533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1205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67FEF-7966-4330-9937-C15F9102DFE4}" type="slidenum">
              <a:rPr b="0" lang="en-US" sz="1200" spc="-1" strike="noStrike">
                <a:solidFill>
                  <a:srgbClr val="11205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38080" y="6552720"/>
            <a:ext cx="182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Nyilvánosan használhat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6552720"/>
            <a:ext cx="8229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112051"/>
                </a:solidFill>
                <a:latin typeface="Arial"/>
              </a:rPr>
              <a:t>Hello World plu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305920" y="76320"/>
            <a:ext cx="53316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2051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6552000"/>
            <a:ext cx="914400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112051"/>
                </a:solidFill>
                <a:latin typeface="Arial"/>
              </a:rPr>
              <a:t>© 2006 IND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00080" algn="ctr">
              <a:buClr>
                <a:srgbClr val="3333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20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  <a:p>
            <a:pPr lvl="2" marL="914400" indent="7128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5724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00360" algn="ctr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0036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0036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112051"/>
                </a:solidFill>
                <a:latin typeface="Arial"/>
              </a:rPr>
              <a:t>Hello World plugin</a:t>
            </a:r>
            <a:endParaRPr b="1" lang="en-US" sz="36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85800" y="35049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rojekt: Eclipse oktatá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Státusz: Kidolgozás alat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erzió: 0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ódosítva: 2006-10-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észítette: Sallai Krisztián Zsol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Bizalmasság: Nyilvánosan használhat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3733920" y="762120"/>
            <a:ext cx="1600200" cy="9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112051"/>
                </a:solidFill>
                <a:latin typeface="Arial"/>
              </a:rPr>
              <a:t>View példa</a:t>
            </a: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Néhány gondolat, észrevét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1440">
              <a:buClr>
                <a:srgbClr val="3333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112051"/>
                </a:solidFill>
                <a:latin typeface="Arial"/>
              </a:rPr>
              <a:t>MVC (Model-View-Control) alapú TableViewer</a:t>
            </a: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  <a:p>
            <a:pPr lvl="1" marL="628560" indent="-271440">
              <a:buClr>
                <a:srgbClr val="3333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112051"/>
                </a:solidFill>
                <a:latin typeface="Arial"/>
              </a:rPr>
              <a:t>Action létrehozása, és felhasználása különböző helyeken</a:t>
            </a: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  <a:p>
            <a:pPr lvl="1" marL="6285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De ez még mindig „halott” plugin. Igazából semmit nem csiná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C9B41-C71D-4C73-BA55-9A5D1169CB5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112051"/>
                </a:solidFill>
                <a:latin typeface="Arial"/>
              </a:rPr>
              <a:t>View példa</a:t>
            </a: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Projekt: org.me.plugin.sample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914400" y="1295280"/>
            <a:ext cx="7315200" cy="3583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F5CFC-E0CF-4123-BC5C-6D7DC3B6D32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112051"/>
                </a:solidFill>
                <a:latin typeface="Arial"/>
              </a:rPr>
              <a:t>View példa</a:t>
            </a: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Néhány gondolat, észrevét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1440">
              <a:buClr>
                <a:srgbClr val="3333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112051"/>
                </a:solidFill>
                <a:latin typeface="Arial"/>
              </a:rPr>
              <a:t>Java.util.Properties a modell (init és dispose függvények szerepe)</a:t>
            </a: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  <a:p>
            <a:pPr lvl="1" marL="628560" indent="-271440">
              <a:buClr>
                <a:srgbClr val="3333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112051"/>
                </a:solidFill>
                <a:latin typeface="Arial"/>
              </a:rPr>
              <a:t>Módosított táblázat</a:t>
            </a: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  <a:p>
            <a:pPr lvl="1" marL="628560" indent="-271440">
              <a:buClr>
                <a:srgbClr val="3333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112051"/>
                </a:solidFill>
                <a:latin typeface="Arial"/>
              </a:rPr>
              <a:t>Add, edit, remove akciók</a:t>
            </a: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  <a:p>
            <a:pPr lvl="1" marL="6285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Próbáljuk meg kiegészíteni egy PreferencePage-el, ahol a properties fájl megadására van lehetőségün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EAC32-54AC-483D-8D7C-BC3189BDD74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112051"/>
                </a:solidFill>
                <a:latin typeface="Arial"/>
              </a:rPr>
              <a:t>Hello World példa</a:t>
            </a:r>
            <a:r>
              <a:rPr b="0" lang="hu-HU" sz="2800" spc="-1" strike="noStrike">
                <a:solidFill>
                  <a:srgbClr val="112051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Projekt: org.me.plugin.sample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143000" y="1219320"/>
            <a:ext cx="6934320" cy="3903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DD1A8-82CA-45FD-A13F-FEC4B1A0979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112051"/>
                </a:solidFill>
                <a:latin typeface="Arial"/>
              </a:rPr>
              <a:t>Background</a:t>
            </a: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teszt SDK létrehoz egy teszt workspace könyvtárat </a:t>
            </a: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runtime-EclipseApplication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név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Mint az már ismeretes minden beállítás a workspaceben tárolódik a projektekkel együt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napló állomány is itt található </a:t>
            </a: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.log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néven. Ennek fontos szerepe van a fejlesztés sorá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Szükség esetén ez a teszt workspace bármikor törölhető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28DAB-796D-40C5-9DF0-C158D1C590E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112051"/>
                </a:solidFill>
                <a:latin typeface="Arial"/>
              </a:rPr>
              <a:t>Background</a:t>
            </a: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Induláskor </a:t>
            </a: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plugin loader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betölti az </a:t>
            </a: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eclipse/plugins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könyvtárban lévő összes plugin leíróját (plugin.xml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1440">
              <a:buClr>
                <a:srgbClr val="3333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112051"/>
                </a:solidFill>
                <a:latin typeface="Arial"/>
              </a:rPr>
              <a:t>Megállapítja a plugin szolgáltatásait</a:t>
            </a: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  <a:p>
            <a:pPr lvl="1" marL="628560" indent="-271440">
              <a:buClr>
                <a:srgbClr val="3333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112051"/>
                </a:solidFill>
                <a:latin typeface="Arial"/>
              </a:rPr>
              <a:t>Függőségeket vizsgál</a:t>
            </a: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  <a:p>
            <a:pPr lvl="1" marL="628560" indent="-271440">
              <a:buClr>
                <a:srgbClr val="3333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112051"/>
                </a:solidFill>
                <a:latin typeface="Arial"/>
              </a:rPr>
              <a:t>Nem példányosít – Lazy loading</a:t>
            </a: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pluginek betöltése után megjelenik az SDK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Bővítési pontokon (extension points) fejti ki a „hatását” a plug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Mindennek saját ID-ja v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8C1E8-8126-47A0-882C-075594FC3BD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112051"/>
                </a:solidFill>
                <a:latin typeface="Arial"/>
              </a:rPr>
              <a:t>Plugin.xml</a:t>
            </a: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?xml version="1.0" encoding="UTF-8"?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?eclipse version="3.2"?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plugin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extension point="org.eclipse.ui.actionSets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actionSet label="Sample Action Set" visible="true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d="org.me.plugin.sample1.actionSet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menu label="Sample &amp;amp;Menu" id="sampleMenu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separator name="sampleGroup"&gt;&lt;/separato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/menu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action label="&amp;amp;Sample Action" icon="icons/sample.gif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="org.me.plugin.sample1.actions.SampleActio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ooltip="Hello, Eclipse world" menubarPath="sampleMenu/sampleGroup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oolbarPath="sampleGroup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d="org.me.plugin.sample1.actions.SampleAction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/action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/actionSet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/extension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/plugin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CF89F-BAE1-426A-B946-70168EF3ECD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112051"/>
                </a:solidFill>
                <a:latin typeface="Arial"/>
              </a:rPr>
              <a:t>Manifest Editor</a:t>
            </a: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Nem javasolt a </a:t>
            </a: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plugin.xml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és a </a:t>
            </a: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build.properties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szerkesztése kézz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Overview – Összefoglalás a plugin legfontosabb tulajdonságairól. A teszt SDK indítása és a plugin exportálása is itt találhat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Dependencies – A függőségeket tartalmazza. A </a:t>
            </a: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required Plug-ins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szekció az egyéb használt plugineket írja 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3780A-4C60-4518-9634-9F76072BC33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112051"/>
                </a:solidFill>
                <a:latin typeface="Arial"/>
              </a:rPr>
              <a:t>Manifest Editor</a:t>
            </a: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Runtime – Az </a:t>
            </a: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Exported Packages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szekció tartalmazza azokat a packageket, amiket további pluginek láthatnak a saját pluginben. A </a:t>
            </a: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Classpath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szekció a third party libek felsorolására ad lehetőség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Extensions – A használt bővítési pontokat adja me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Extension Points – Új bővítési pontok létrehozására alkalm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Build – Az exportálás beállításit tartalmazz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E1FF0-01A9-40CB-B235-B83E9F92BE8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112051"/>
                </a:solidFill>
                <a:latin typeface="Arial"/>
              </a:rPr>
              <a:t>Plugin Class</a:t>
            </a: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plugin aktiválásakor példányosodik, és csakis egy példányban minden más class előt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lapvetően nem érdekes, de később még lesz szerepe képek használatak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A6389-9824-44D8-AC2D-6ADD8F41A50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112051"/>
                </a:solidFill>
                <a:latin typeface="Arial"/>
              </a:rPr>
              <a:t>View példa</a:t>
            </a:r>
            <a:r>
              <a:rPr b="0" lang="hu-HU" sz="2800" spc="-1" strike="noStrike">
                <a:solidFill>
                  <a:srgbClr val="112051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Projekt: org.me.plugin.sample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838080" y="1219320"/>
            <a:ext cx="8001000" cy="4495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467AD-3E57-4BF2-8B2D-49ED17B7A6A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6T08:56:43Z</dcterms:created>
  <dc:creator/>
  <dc:description/>
  <dc:language>en-US</dc:language>
  <cp:lastModifiedBy>sallai</cp:lastModifiedBy>
  <dcterms:modified xsi:type="dcterms:W3CDTF">2007-03-01T10:40:42Z</dcterms:modified>
  <cp:revision>543</cp:revision>
  <dc:subject/>
  <dc:title>Empty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bbr.">
    <vt:lpwstr>-</vt:lpwstr>
  </property>
  <property fmtid="{D5CDD505-2E9C-101B-9397-08002B2CF9AE}" pid="3" name="Language">
    <vt:lpwstr>Hungarian</vt:lpwstr>
  </property>
  <property fmtid="{D5CDD505-2E9C-101B-9397-08002B2CF9AE}" pid="4" name="Status">
    <vt:lpwstr>Approved</vt:lpwstr>
  </property>
  <property fmtid="{D5CDD505-2E9C-101B-9397-08002B2CF9AE}" pid="5" name="Template Approver">
    <vt:lpwstr>Pető Zoltán</vt:lpwstr>
  </property>
  <property fmtid="{D5CDD505-2E9C-101B-9397-08002B2CF9AE}" pid="6" name="Template Author">
    <vt:lpwstr>Pető Zoltán</vt:lpwstr>
  </property>
  <property fmtid="{D5CDD505-2E9C-101B-9397-08002B2CF9AE}" pid="7" name="Template Date">
    <vt:lpwstr>2006-10-12</vt:lpwstr>
  </property>
  <property fmtid="{D5CDD505-2E9C-101B-9397-08002B2CF9AE}" pid="8" name="Template Lang.">
    <vt:lpwstr>Hungarian</vt:lpwstr>
  </property>
  <property fmtid="{D5CDD505-2E9C-101B-9397-08002B2CF9AE}" pid="9" name="Template Name">
    <vt:lpwstr>Empty PowerPoint</vt:lpwstr>
  </property>
  <property fmtid="{D5CDD505-2E9C-101B-9397-08002B2CF9AE}" pid="10" name="Template Parent">
    <vt:lpwstr>-</vt:lpwstr>
  </property>
  <property fmtid="{D5CDD505-2E9C-101B-9397-08002B2CF9AE}" pid="11" name="Template Status">
    <vt:lpwstr>Approved</vt:lpwstr>
  </property>
  <property fmtid="{D5CDD505-2E9C-101B-9397-08002B2CF9AE}" pid="12" name="Template Validity">
    <vt:lpwstr>2006-10-12</vt:lpwstr>
  </property>
  <property fmtid="{D5CDD505-2E9C-101B-9397-08002B2CF9AE}" pid="13" name="Template Version">
    <vt:lpwstr>1.0</vt:lpwstr>
  </property>
  <property fmtid="{D5CDD505-2E9C-101B-9397-08002B2CF9AE}" pid="14" name="Tool">
    <vt:lpwstr>PowerPoint</vt:lpwstr>
  </property>
  <property fmtid="{D5CDD505-2E9C-101B-9397-08002B2CF9AE}" pid="15" name="Valid from">
    <vt:lpwstr>2006-10-12T00:00:00Z</vt:lpwstr>
  </property>
  <property fmtid="{D5CDD505-2E9C-101B-9397-08002B2CF9AE}" pid="16" name="Version0">
    <vt:lpwstr>1.0</vt:lpwstr>
  </property>
</Properties>
</file>