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23B1-D06A-4951-8D18-3AC56FD86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B65C-8FE4-4CE3-9648-6160EA3BC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5924-226E-40D5-8AFB-148598522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359F-BD28-4296-AEAD-73F21653C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1E16-6CCB-42FB-AF91-B62B363B9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6786-A6C0-4FE8-9C54-15629A255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9443-6239-407E-B188-BC51AFEFC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0C97-ECF9-4D2F-94E2-DACFEA166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33CC-8A3A-4A36-9294-0E5904F51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E5AE-F2C4-4478-835A-A7A9498C1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FFA6-9C6A-4DF1-A6D9-B2DCD2C57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C115-4CE6-4F84-AC4B-3FD1287E4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B7B0-A32D-4D4E-B6E5-A2E86B286058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RCP ala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sgi.org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RCP alapok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7-03-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gyfajta architektúra 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6248520" cy="546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B7BA-B180-4503-B80D-6340BFD97E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gyfajta architektúra 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42968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62AE-89E1-4D4A-ADCD-A72943BC11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OSGi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komponens modell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OSGi framework R4.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lapul, annak gyakorlatilag egy implementáció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sgi.org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projekt ne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n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7A75-14A9-432F-BDAB-397968B054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Runtime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lkalmazás modellért és a bővítésért fel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keresi és futtatja a megadott alkalmazást amely szintén bővítési ponton keresztül adható m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rmékesítésért is fe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plash scree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Ablak iko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73BC-0B73-4DB5-8805-61AB2F9561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Runtime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Extension Registr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Runtim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ban találhat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Egy nagyon szemléletes példa az org.eclipse.ui.actionSet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315200" cy="259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9AC8-BB0F-4E51-8AC1-04D6C59DA8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SWT és JFace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lugineknél már megismerkedtünk velük. Rövi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WT - alacsony szintű grafikus könyvtár, amely a felhasználói felület alap építő kockáit ad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Face – Ráépül az SWT osztályaira, de rejti el. A rabszolga munkát csökk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odel-View-Control alapú Viewer (Table/Tree)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Dialógus ablako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Felhasználói akció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9B58-6EA6-4562-99E0-04D0E232EE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UI Workbench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íg a JFace struktúrát ad az SWT-nek, addig a Workbench prezentációt és koordinációt ad a JFacenek. Nézetek és editorok találhatóak különböző perspektívák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orlatilag egy bővíthető felületek kapunk eredményü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D57E-8789-4114-B58E-CACEDD88CB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7-03-07T10:15:02Z</dcterms:modified>
  <cp:revision>550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