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8490-CE24-4652-BD23-3F20E5EA4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1CED-2BC1-4DF4-9B70-2F0163F03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D42C-F714-4D27-82AE-7F4384736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8571-640E-4ED5-82B6-CB5D4F1E7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EF7D-2FF3-4DA0-AE50-67A52D81D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C25C-F7A0-4EDE-85A3-E6757DD0C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882D-CE16-49FB-8E8A-CA450D888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990E-B0BE-49C3-B875-6C07DB495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888C-10EC-4EC3-9308-D1F410B8B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5DAD-85DF-4DD1-A10F-1C3FF1110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7D0D-3161-481D-8F1F-7FA231D7B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7B48-9950-43B9-978F-4B262CF40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F3D-43F8-4C61-A2D7-A076CBAF2AD4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sg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24852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C77D-1689-4D83-B728-618500C60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429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8365-5F38-4EBA-82BB-7AFE70FB9B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OSGi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komponens modell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OSGi framework R4.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lapul, annak gyakorlatilag egy implementáció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sgi.or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projekt ne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891A-9820-41F7-B0F8-9BCA1CA914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kalmazás modellért és a bővítésért fel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keresi és futtatja a megadott alkalmazást amely szintén bővítési ponton keresztül adható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ékesítésért is fe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plash scre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blak iko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AE05-2B0A-426D-BDD3-540DD2EB95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tension Registr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an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Egy nagyon szemléletes példa az org.eclipse.ui.actionSet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315200" cy="25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EB2B-2D09-4DD1-A611-28E8B7226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 és JFac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nél már megismerkedtünk velük. Röv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WT - alacsony szintű grafikus könyvtár, amely a felhasználói felület alap építő kockáit ad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Face – Ráépül az SWT osztályaira, de rejti el. A rabszolga munkát csökk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-View-Control alapú Viewer (Table/Tre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ablako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27D4-0BB6-4655-85FD-91FE36A5E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UI Workbench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JFace struktúrát ad az SWT-nek, addig a Workbench prezentációt és koordinációt ad a JFacenek. Nézetek és editorok találhatóak különböző perspektívák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ilag egy bővíthető felületek kapunk eredményü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A491-4BA4-40CA-8D62-17DAE7E37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7T10:15:02Z</dcterms:modified>
  <cp:revision>550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