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3277-34D9-4C9F-BB00-E2B427930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613C-ABEA-41E0-981A-E1B783C8F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BE94-E5CD-4953-9262-CD4CFDB79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65D9-390B-44EC-836E-746599402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D070-8EC0-4991-A9D0-324EAFAAD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C4B1-5172-44FF-8E05-82DC41328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4993-327A-47F2-A46B-C7F096B6C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740B-BC76-4C0F-AD6A-A4BDE8F28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B425-856F-49AD-9EEF-B0F0A12D9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4D7F-0F8B-41B8-A36E-565FC623B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447F-2A56-46AE-BCBB-FC8507398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9FDF-A536-45F3-91BF-E2FD94407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E3D-B4B7-431C-93E6-941D2FD46A5B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lipsezone.com/eps/10minute-rcp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clipse.org/home/categories/rcp.php" TargetMode="External"/><Relationship Id="rId2" Type="http://schemas.openxmlformats.org/officeDocument/2006/relationships/hyperlink" Target="http://www.eclipsezone.com/" TargetMode="External"/><Relationship Id="rId3" Type="http://schemas.openxmlformats.org/officeDocument/2006/relationships/hyperlink" Target="http://home.mit.bme.hu/~abalogh/open2005/" TargetMode="External"/><Relationship Id="rId4" Type="http://schemas.openxmlformats.org/officeDocument/2006/relationships/hyperlink" Target="http://www.theserverside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9FD6-DCC8-4077-9D3B-3C6A4E0ACF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RCP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számottevő különbség egy RCP alkalmazás és egy plugin közöt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éhány clas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xportálni az alkalmazásun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BF00-84CD-481D-8248-FCD3CB49A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 product fil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galma szerint a termék minden ami az alkalmazással m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ovábbi függőségből származó plugine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Launch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Bran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duct file felel ezekért. Szerkesztése egyszerű manifest editoron keresztül lehetsé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trehozása: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w -&gt; Other - &gt; Plug-in Development -&gt; Product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73B9-C00D-490B-8AD3-BCDA26DD5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2051"/>
                </a:solidFill>
                <a:latin typeface="Arial"/>
              </a:rPr>
              <a:t>Why You Should Use Eclipse RCP (In 10 Minutes)</a:t>
            </a:r>
            <a:br>
              <a:rPr sz="2400"/>
            </a:b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zone.com/eps/10minute-r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D314-23A4-4529-9C64-0D0F0FD9AC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Chat RCP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rcp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8716-DEA8-4C82-892C-FA91C2963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IND SSM Console (példa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1120" y="685800"/>
            <a:ext cx="8157960" cy="55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8DB9-D4F3-4CAA-9C97-D9BF50FC2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112051"/>
                </a:solidFill>
                <a:latin typeface="Arial"/>
              </a:rPr>
              <a:t>További informá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lipse.org/home/categories/rcp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clipsezone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mit.bme.hu/~abalogh/open2005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heserversi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1863-A351-4FE5-A0F7-8047BD640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8T09:19:58Z</dcterms:modified>
  <cp:revision>552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