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EC88-0181-4746-935E-86D6859C7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AAE0-8F43-4108-A171-6761943E5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7C1B-4731-47E8-A31A-DF5642E79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EB85-6489-434B-AEE6-1E007BBE0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D0FC-26EE-43A4-A61C-2AEF48729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B21A-0ED2-49E7-82D5-9139C8F55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3E32-0783-43BA-8407-D4BEECA30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C098-525B-40FE-B73D-6003CD2F0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C3E6-CD1F-429C-89C1-0A64BA5A5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6B79-D666-49F0-8F21-0CE967188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579C-8A83-40FB-B671-0EF4C9157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C345-0E81-41EE-8706-DFDC521C7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05DC-DFE7-491A-8542-32DA4103C3F9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lipsezone.com/eps/10minute-rcp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clipse.org/home/categories/rcp.php" TargetMode="External"/><Relationship Id="rId2" Type="http://schemas.openxmlformats.org/officeDocument/2006/relationships/hyperlink" Target="http://www.eclipsezone.com/" TargetMode="External"/><Relationship Id="rId3" Type="http://schemas.openxmlformats.org/officeDocument/2006/relationships/hyperlink" Target="http://home.mit.bme.hu/~abalogh/open2005/" TargetMode="External"/><Relationship Id="rId4" Type="http://schemas.openxmlformats.org/officeDocument/2006/relationships/hyperlink" Target="http://www.theserverside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7-03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RCP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rcp.sampl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0552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1357-3311-44EB-B620-91298C54C5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incs számottevő különbség egy RCP alkalmazás és egy plugin közö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lugin.xm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éhány clas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k meg kiexportálni az alkalmazásun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3FA7-3DD1-4431-90FF-5D28374AB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 product fil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fogalma szerint a termék minden ami az alkalmazással m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aját plugine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További függőségből származó plugine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Launch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Brandin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duct file felel ezekért. Szerkesztése egyszerű manifest editoron keresztül lehetsé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trehozása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ew -&gt; Other - &gt; Plug-in Development -&gt; Product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9731-6A0F-4B51-940E-8B02BC98A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2051"/>
                </a:solidFill>
                <a:latin typeface="Arial"/>
              </a:rPr>
              <a:t>Why You Should Use Eclipse RCP (In 10 Minutes)</a:t>
            </a:r>
            <a:br>
              <a:rPr sz="2400"/>
            </a:b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lipsezone.com/eps/10minute-r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56A9-332E-4AE2-B5D2-2C71060C87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Chat RCP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rcp.sampl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4742-3EFE-4D9E-B521-8E1C6A0843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2051"/>
                </a:solidFill>
                <a:latin typeface="Arial"/>
              </a:rPr>
              <a:t>IND SSM Console (példa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1120" y="685800"/>
            <a:ext cx="8157960" cy="55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0250-C37C-4E9D-A75D-D87F3AE3CB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2051"/>
                </a:solidFill>
                <a:latin typeface="Arial"/>
              </a:rPr>
              <a:t>További informá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lipse.org/home/categories/rcp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clipsezon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mit.bme.hu/~abalogh/open2005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serversi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D078-4425-456D-BDD7-D4FF8B614E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8T09:19:58Z</dcterms:modified>
  <cp:revision>552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