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2564-A499-4A2A-A7EC-376485027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D161-FBAC-49B6-908F-4327A941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0284-56E8-4981-82CA-6800D1D45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ABAE-C630-4C81-9ABA-AB82C9891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1C86-E8D6-4DA3-8CD6-A23913B3B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0FED-16FD-44FC-A642-E0BAC6701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F905-23F2-49BA-9C2E-5FF10AE1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DE3C-E062-4D54-BEBD-3C272F888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1725-C4A3-4498-9364-348BA7BB1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A70A-CDF7-47D1-A535-E1DC7A6A9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69D1-96E3-4770-9BD5-4BBCAFB5B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AE3F-9628-48F5-AB28-AC65B8B14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4F25-726D-4210-9573-A8F4CFA3EDCE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lipsezone.com/eps/10minute-rcp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lipse.org/home/categories/rcp.php" TargetMode="External"/><Relationship Id="rId2" Type="http://schemas.openxmlformats.org/officeDocument/2006/relationships/hyperlink" Target="http://www.eclipsezone.com/" TargetMode="External"/><Relationship Id="rId3" Type="http://schemas.openxmlformats.org/officeDocument/2006/relationships/hyperlink" Target="http://home.mit.bme.hu/~abalogh/open2005/" TargetMode="External"/><Relationship Id="rId4" Type="http://schemas.openxmlformats.org/officeDocument/2006/relationships/hyperlink" Target="http://www.theserversid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988E-52AA-4BCC-874E-399995BD2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számottevő különbség egy RCP alkalmazás és egy plugin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éhány clas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xportálni az alkalmazásun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192A-59E8-48AA-98F8-DE94D7B9F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 product fil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galma szerint a termék minden ami az alkalmazással m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ovábbi függőségből származó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Launch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Bran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duct file felel ezekért. Szerkesztése egyszerű manifest editoron keresztül lehetsé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ása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w -&gt; Other - &gt; Plug-in Development -&gt; Product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0892-587E-4B02-8156-B11926847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2051"/>
                </a:solidFill>
                <a:latin typeface="Arial"/>
              </a:rPr>
              <a:t>Why You Should Use Eclipse RCP (In 10 Minutes)</a:t>
            </a:r>
            <a:br>
              <a:rPr sz="2400"/>
            </a:b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zone.com/eps/10minute-r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A74-1E8E-408C-9302-484E4BC88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Chat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8A3D-07FF-43D8-904E-F37370C1F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IND SSM Console (példa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8157960" cy="55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D16-D835-4B9D-8D59-32C74FB40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További informá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.org/home/categories/rcp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lipsezon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mit.bme.hu/~abalogh/open2005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serversi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F51F-7CE8-4565-8D1E-348CE3E39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8T09:19:58Z</dcterms:modified>
  <cp:revision>552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