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E4A8-AC92-4D2A-B20A-9A760919A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8F34-F86A-464A-AB22-00410D902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0E14-651C-4F19-A387-8ACCADB48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95E8-E07A-435D-857C-F04EF04AB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8D93-D3D2-46C4-B27A-8F50DC649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ED05-85DE-47E5-A651-CA0E9A992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C3C0-A2FF-4357-BD80-6B2DBF7E7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BA21-442E-4C1B-BFC8-2B0E53446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4AB7-DF7F-4969-A8EE-B519AC04F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5B79-3813-4181-96E3-1E2F9D9DC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6417-B4BC-42A2-873F-6545B8630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1425-7B8F-4D25-96E6-5B31C0CD7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28AC-CC89-4128-85C4-EB8333B3AA96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RCP ala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sgi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RCP alapok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7-03-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gyfajta architektúra 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24852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4BDD-614A-4240-9B31-3F6498F46B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gyfajta architektúra 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4296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D614-52F3-4231-879C-DAA43EAEC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OSGi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komponens modell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OSGi framework R4.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lapul, annak gyakorlatilag egy implementáció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sgi.or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projekt ne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C7DB-A3A2-415F-ABCA-45931F7425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kalmazás modellért és a bővítésért fel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keresi és futtatja a megadott alkalmazást amely szintén bővítési ponton keresztül adható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ékesítésért is fe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plash scre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blak iko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95A3-13D5-45AA-8D66-F981211828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xtension Registr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ban tal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Egy nagyon szemléletes példa az org.eclipse.ui.actionSet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315200" cy="25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AC21-0659-42EA-AF93-8A84A656E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SWT és JFac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eknél már megismerkedtünk velük. Rövi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WT - alacsony szintű grafikus könyvtár, amely a felhasználói felület alap építő kockáit ad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Face – Ráépül az SWT osztályaira, de rejti el. A rabszolga munkát csökk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el-View-Control alapú Viewer (Table/Tree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Dialógus ablako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elhasználói ak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8CF3-6664-44C7-9D7D-E62479154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UI Workbench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íg a JFace struktúrát ad az SWT-nek, addig a Workbench prezentációt és koordinációt ad a JFacenek. Nézetek és editorok találhatóak különböző perspektívák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ilag egy bővíthető felületek kapunk eredményü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F198-DA59-453A-A6C7-3501C3357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7T10:15:02Z</dcterms:modified>
  <cp:revision>550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